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CEB7-A8E6-4DF1-A04F-FA041F66C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87A0-7DA2-44FA-B07F-748333769B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C436-DF28-4953-9306-9E3CFC27C4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D090A-7FBB-4B6A-8751-BB5B43B3F7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BB8B-0A33-4753-BE06-5FD5E244A8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5775-7B13-4320-B3E0-D11F4619D0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1A0A-1313-4AE3-BB15-35F253E018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8893-F7FC-4995-8AEC-4F9F165FFC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0F2C-7FB7-4AE7-9317-B337EF9E29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36DB-1C01-49EB-BB9C-3B1D66EE44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3E9F1-A8ED-4563-9E8C-EEAC2CA823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51B50-3D2D-4319-BDA5-80447D7CE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5F71-8026-44B2-A27A-2341764B999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DA2B8-170D-4552-9A5C-AEE2E399BE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F000C-07F3-4BDF-9707-FE39F7DBF2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68ABF-3FEF-47FA-9712-B5156F6958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9473D-9287-4F84-B549-4C2425302BE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E541C-3682-421C-8927-9E815BC584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A3D47-E125-410C-BBB8-3F6697E0F2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62889-9504-4FC6-A854-85FB92C4B3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405C1-8178-44C1-9678-7E565FB1B3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3AAE9-1813-488B-BD9A-4F8A07BCAD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085C0-FF5D-4B92-A93E-D6912FBF2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28AA-D0AC-4C97-81F5-8210BB73CF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A647F-C8A8-4DD7-836F-817AF94BC2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4B539-56A5-4565-AD76-0566F7153C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64134-9793-4F2D-BF18-623B92133C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691C4-60C8-4C34-A896-2A0E065526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6B04E-752D-438A-956C-B933376A5D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E8F165-BD62-49D1-B3B0-385469E1A6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5B292-D61C-47F9-ABB8-FF3E8985CD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709F3-3FF8-413C-8C0E-4C8676A0F4F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D3521-BFCE-4DF1-8E6A-D09C783EDF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46068-FAAA-47A5-97BB-F74FE8F4C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519A5-504B-4CF9-B6DB-1BAB8F3A4C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B83EA-0232-4732-AD5C-42D9CAE270F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D4BFC1-1AC7-4B28-BE07-1A80FC4542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80E84-5310-4800-8634-857698064D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748E8-44B4-47D8-811D-5AC8DB0E4ED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D99C-F138-4CC6-BA63-007772604E3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0421E-A236-469F-B91F-8CDA95ED4F2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2075-2144-45CA-A75C-C2D074FFAD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BB84-3177-4D41-B335-91EC89DACC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0D18-AD00-4D79-9A91-ECABF7DA519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87754-30F7-4554-A61B-16C5F745BA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7E73E-E005-41F2-8C16-49B60BA35E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BD22-DC8B-4837-833E-EBB5F4D07C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32B6-6D34-46C2-99A9-9E43EC20C1D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551C-8FD8-462F-B92C-CC754EC68F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3732-EA7B-443A-AB40-396A8738A7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727B-2414-4B1A-8642-D15A758CB8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55E5-3D19-4238-9B85-2445ECD204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84A3-9FBE-4107-8569-34BB8297E4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D796F-73DA-4384-881D-F3B8B0C04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54867-2AA0-4A9D-8D27-B270FDA6B4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5EE8-8D55-4184-99A3-F0429C6CC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8BF2-8F4D-49A8-AABE-4C9364E21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F33AE-5C0B-41C8-A564-C384CCAF0F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854BD-79DC-4D03-83A5-5B76452E3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092B3-CD9F-4CD8-8860-86C940025F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C5581-6980-4D3C-B660-CC7329AD18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FC19-4984-439B-A7A1-0B145EC64A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68A5-0A10-4FFC-941F-3D1AA0DBC8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B7A-7ADC-4C07-8EB9-5DE9B965C1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CDCE-22D3-4B49-8002-E1E711D21E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3281-E10C-4548-90D1-40DED22915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02EF-2B23-4B0C-8129-CF9757C31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94AD-F23C-4374-ACB0-35660EA676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CE60-974A-4C41-93C9-33CF7DDC26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183F-1B4D-44AB-AFFE-8C4F421170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0DD-E003-47CF-AAE2-2793BD8745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A1A-75C5-425C-9716-87AF1CE1CD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CC0-4756-4A16-B989-4EF0D6C3F4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2F1-C993-4A85-B35F-88C4486DED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1FD-47D7-46CF-9AE3-55D031E713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15F2-63FE-4C52-8403-866D1B2085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FD787-63E0-42E0-9878-530870A436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8D8B5-AADF-4674-8A2E-EDF70FB36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F384-6341-4B30-956A-E177602504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610D1-314B-4A9B-934C-ED7464ACA2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81CEA-5EAC-4DFB-8177-47206BF400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E9432-26A0-4085-AE04-BD6FCA390E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F390A-045B-4A6C-8D1F-670A1A1FC0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BCFEB-8C8B-4AA3-868D-B6B84D1EAC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92A17-547B-4902-A593-921B77BD9A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C0C2A-74E8-43C4-B29E-806006525E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C4055-DD32-4271-9AD6-A38109A577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DDB06-E4D5-49F7-BA60-867B46E7BE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8ABDD-7A9D-4F69-8BA3-866F4A6B0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DFFB-F6F5-4AE7-AAFD-B80DF09426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7C0DB-94AE-4BED-BAAE-92A6A3C237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83868-0D6D-420E-9759-E2CC750829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8817A-B71A-4BFB-8BA6-A7AAD51077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ED3A6-0A96-4611-B332-8DB1506953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3143F-244B-473B-A309-5BADD85455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FE8AE-D372-4926-9F25-F403D106D2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A382E-035C-45A4-8026-1CD9121110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C0EC8-255B-4121-9F44-CF013E9E4C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13FB5-F6EE-40A5-9F6F-FECAC4D59D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E40ED-FDA4-43DB-A312-212A1F95C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0994-B56A-4F4E-9C41-302936027A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3AB90-B2A2-4DA5-9830-C5D2EE5187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FB1E1-D478-486A-91EE-32972B8954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A866-E423-438C-9C9F-8E292760AC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596C-A26A-49B2-B99C-6AD8DB5527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FBB1-09C1-4D55-BFCE-5D95E5C46D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B95B-1D3E-435A-B81E-FCC71343E2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2319-4705-4B63-8C8B-8B2BA3A98C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20D6-7891-4943-803A-DD0496F393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B9CF-9BAB-48ED-99FE-D19E4F76EF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BCCD-A9CE-488A-AB64-775F2C2D8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796B-E2FF-4A88-B3FA-45686BC205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FD5D-E10A-4F96-9903-AE99EE12DF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E585-B944-4A83-845B-745174D04C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1080-71F7-415D-A3CE-0ACF9CDCAC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A3BEA-F1AA-43C9-A325-44DCECC3F4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8B31D-880B-4F56-A62A-D1A53695A1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4AA6B-1C6A-4956-973F-67C090BEE7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C6BF6-040F-48D8-BE42-00B252E33F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05A5B-6A6E-4239-B19C-91210357E3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AF14F-73C9-4CD1-AF88-C794DAB6B8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ECF97-DCE1-48FD-8682-DDC49FD47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7891-356C-44DE-A7C7-20220F955F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E5728-986F-43A3-9418-25040E9367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55800-9098-4F1C-A7BA-F2CA5CBC7E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5EABD-C42D-45B6-AE8A-BF05DAC73A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FBCF6-6844-4CF9-BBDD-4B013CCA36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20E15-AF73-4BA8-BD5E-74BE6E72C0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630D9-E138-4402-88B9-D041A38611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F34E54-1E1A-4428-9051-A0D8D67CE8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77711-A5C2-4DD3-BE9B-A71C121382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6346A-4265-4F67-9648-6C2155D3E1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4FD9E-ECD0-43D5-B172-45F6F17B6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0376-EED7-4966-A185-97B6616C9AC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7EE28-9B24-4326-A87D-3633910231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38BB1-6A0D-419C-AFCA-38C54D0388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AC8A47-590E-4609-B029-2E379A2906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34571C-D6F0-4138-8400-F9712628A1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90A2B-497B-4460-8EEE-9E30E664F8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615F1-BC3C-493D-BCA2-CEDDF64F0E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D1EA2-0907-412D-9523-76CD67F04D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C9D5-2F48-4067-9F66-570191D79F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B919C-9748-45FF-96CC-D5B19A2BAC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85E7-C1F5-43C5-882A-ECE3F8F74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04F-A6F8-492F-8301-DCD607DBAF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F0DB-4886-4CC0-915B-D3C4CDC31C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50A8-D131-4F16-BD2F-35B4DA4793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FD5-09CA-4D70-BD42-98B67689881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103-59EA-4E72-AFAF-F986C82F844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0634-1356-4C0C-8B6E-7EEF356A2F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ECD-4633-485C-A690-7580EE19A9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43E-DC25-4B1E-899D-FC56BDBACC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626-D520-4BD4-A843-87DBAEACAAB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5033-FEBB-45A9-A9FC-A41E36AECA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AC89-D079-42D4-8F49-02A266B1AB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644E-7126-44F1-952A-8C5CE7C349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7085-415B-4EC6-9738-B58DA851A3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17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Uses of Poi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memory for a st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character requires one byte of memory; adding 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ves room for the null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prefer to ca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, although the cast is not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(char *)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5F48-9136-4521-97BF-8D870BB0A6E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that its parameters have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we can’t access the member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thr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olve the proble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ssign its paramete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variabl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0106-098C-49B1-9137-87B3D787283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into ascending order by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p1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q1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1-&gt;number &lt;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p1-&gt;number ==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EBE2-83B9-4B2A-B416-DF9E6095AD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 programmers would write the function more concis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(struct part *) p)-&gt;numbe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((struct part *) p)-&gt;number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259-D83A-423E-8D99-A033FCD7D7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even shorter by remov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((struct part *) p)-&gt;numbe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E73-A46F-4207-97C4-7FF329FCE9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by part name instead of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trcmp(((struct part *) p)-&gt;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3101-4865-4863-B8D3-41AF8DF612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function pointers are often used as arguments, that’s not all they’re good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treats pointers to functions just lik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be stored in variables or used as elements of an array or as members of a structure or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even possible for functions to return function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69F-4EA8-4D4D-A14D-DE3F510395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ariable that can store a pointer to a function wit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and a return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pf)(int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uch a function, we can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writing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f)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B49-2793-4BAA-A2E0-C0593EE80F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rray whose elements are function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file_cmd[])(void) = {new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s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_c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A00-8A28-4A0F-88C5-914CF241AC5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function stored in pos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ile_cmd[n])()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[n]()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get a similar effec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, but using an array of function pointers provides mor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23A-C74D-4356-83CC-E6B12C6C03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prints tables showing the valu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is built around a function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, when passed a function poi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rints a table showing the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n argu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smallest integer that’s greater than or equa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DD10-6ED5-4B0C-B6ED-A694A98D7B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alloc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cleared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an uninitialized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2A2-3E6B-4D97-BF5D-75300776EC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2411280" y="2986200"/>
            <a:ext cx="4243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ssion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iti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fin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crement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cos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1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99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98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955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921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87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4EE-F9FE-437F-B5D9-5597AE32BF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si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09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1986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295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389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4794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ta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100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202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309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422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546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8091-27E6-4B19-92C5-9FE703FCB5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Tabulates values of trigonometric function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final, increment, ini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iti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iti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fin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crement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47B3-E9A5-4087-9ADC-B3A8932FB9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cos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cos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si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si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ta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ta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last - first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first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10.5f %10.5f\n", x, (*f)(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ECDA-3796-4B04-AEFC-09DA23160A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1062000" y="1339920"/>
            <a:ext cx="1484280" cy="1458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927000" y="2817720"/>
            <a:ext cx="7661520" cy="3402000"/>
          </a:xfrm>
          <a:prstGeom prst="rect">
            <a:avLst/>
          </a:prstGeom>
          <a:ln w="0">
            <a:noFill/>
          </a:ln>
        </p:spPr>
      </p:pic>
      <p:sp>
        <p:nvSpPr>
          <p:cNvPr id="968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57D-CC6D-4CE3-A3A9-7E5C20F7729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46800" cy="3888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2543040" cy="1752480"/>
          </a:xfrm>
          <a:prstGeom prst="rect">
            <a:avLst/>
          </a:prstGeom>
          <a:ln w="0">
            <a:noFill/>
          </a:ln>
        </p:spPr>
      </p:pic>
      <p:sp>
        <p:nvSpPr>
          <p:cNvPr id="97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627-9949-4957-8A2E-127AF385B31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05600" cy="1800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7886520" cy="1352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7416720" cy="1657440"/>
          </a:xfrm>
          <a:prstGeom prst="rect">
            <a:avLst/>
          </a:prstGeom>
          <a:ln w="0">
            <a:noFill/>
          </a:ln>
        </p:spPr>
      </p:pic>
      <p:sp>
        <p:nvSpPr>
          <p:cNvPr id="975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C71-9965-4D68-BC4B-EA6C5C0963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rrays of Pointers to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7661520" cy="4857840"/>
          </a:xfrm>
          <a:prstGeom prst="rect">
            <a:avLst/>
          </a:prstGeom>
          <a:ln w="0">
            <a:noFill/>
          </a:ln>
        </p:spPr>
      </p:pic>
      <p:sp>
        <p:nvSpPr>
          <p:cNvPr id="978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108-5FB8-4819-9F69-6EEDB24FD7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647640" y="81000"/>
            <a:ext cx="7848720" cy="6696000"/>
          </a:xfrm>
          <a:prstGeom prst="rect">
            <a:avLst/>
          </a:prstGeom>
          <a:ln w="0">
            <a:noFill/>
          </a:ln>
        </p:spPr>
      </p:pic>
      <p:sp>
        <p:nvSpPr>
          <p:cNvPr id="980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0E2-6104-4FC9-8511-9A0F40BE086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40920" cy="4321080"/>
          </a:xfrm>
          <a:prstGeom prst="rect">
            <a:avLst/>
          </a:prstGeom>
          <a:ln w="0">
            <a:noFill/>
          </a:ln>
        </p:spPr>
      </p:pic>
      <p:sp>
        <p:nvSpPr>
          <p:cNvPr id="982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303-F163-418E-AAA1-BE5EBFEEBAD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e way to initialize thi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four characters in the array will now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3C14-AC20-48BF-8ACF-4EA172E853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424240" y="3538440"/>
            <a:ext cx="4230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329440" cy="3503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6769080" cy="2643120"/>
          </a:xfrm>
          <a:prstGeom prst="rect">
            <a:avLst/>
          </a:prstGeom>
          <a:ln w="0">
            <a:noFill/>
          </a:ln>
        </p:spPr>
      </p:pic>
      <p:sp>
        <p:nvSpPr>
          <p:cNvPr id="985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B32-3B1F-446C-BB53-75A9DFA2A3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appear in the declaration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tricted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nt is that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an object that is later modified, then that object is not accessed in any way other than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more than one way to access an object is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a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0C78-443F-4E15-9DB8-F38003BA01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ly it would be legal to cop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n modify the integer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defin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restricted pointer, the effect of executing the stat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n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15A-9298-45C7-82B8-2A4631B2B8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illustra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copies bytes from one object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nother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 restrict s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void * restrict 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objects to which they point shouldn’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D4E6-03CE-49AA-BA58-81DEED91A6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ontras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appear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is guaranteed to work even if the source and destination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hift the elem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(&amp;a[0], &amp;a[1], 99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97C-4B97-4669-B3CA-1A47280820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or to C99, there was no way to document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the two functions were nearly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C99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prototype is a warn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should no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F62C-5C89-4AF8-A28D-D91F888520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information to the compiler that may enable it to produce more efficient code—a proces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standard guarante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a program that conforms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programmers w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less they’re fine-tuning a program to achieve the best possibl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B382-2A3F-4B6D-A455-3F918FFC25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casionally, we’ll need to define a structure that contains an array of an unknown siz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might want a structure that stores the characters in a string together with the string’s lengt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fixed-length array is undesirable: it limits the length of the string and wastes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62A-A504-43A8-8B6B-47D3C9E75F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programmers traditionally solve this problem by declaring the leng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1 and then dynamically allocating each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1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 - 1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the “struct hack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7B95-888C-4F0A-98E8-3712529D12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 hack is supported by many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(including GCC) even allow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to have zero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standard doesn’t guarantee that the struct hack will work, but a C99 feature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exible array m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es the same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A9C-2AA3-4486-99F9-FBC61D7350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makes it possible to write functions that return a pointer to a “new”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writing a function that concatenates two strings without changing either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 will measure the lengths of the two strings to be concatenated, the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the right amount of space for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06F-F320-446E-8BF3-A637238DD7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ast member of a structure is an array, its length may be omi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]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lexib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rra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ber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99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ngth of the array isn’t determined until memory is allocated for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v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gnor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when computing the size of the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6FA-CB74-4589-93FD-7EF8DC2899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for structures that contain a flexible array 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lexible array must be the last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ure must have at least one other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a structure that contains a flexible array member will copy the other members but not the flexible arra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EFD2-FE4A-4559-824F-0D6229D551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ucture that contains a flexible array member is an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complete type is missing part of the information needed to determine how much memory it requi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s are subject to various restri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n incomplete type can’t be a member of another structure or an element of an arr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an array may contain pointers to structures that have a flexible array memb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24B-0E93-42D1-ADAA-6864C47163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concat(const char *s1, const char *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trlen(s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len(s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sult == NULL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\n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sult, 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sult, s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D05-2EC9-4C8B-BFEF-F17EAE3BBF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oncat("abc", "de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de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stored in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1B0-A684-444A-95E8-5681C3C7DDE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dynamically allocate storage must be used wi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tring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is no longer needed, we’ll wan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the space that the string occu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don’t, the program may eventually run out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F9D2-AE96-4B77-84BF-3CFA28BA36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based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of Chapter 13, which prints a one-month list of daily remin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stores reminder strings in a two-dimensional array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the array will be one-dimensional; its elements will be pointers to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66E-9BE0-4A0D-8E4E-78A4124784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switching to dynamically allocated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space more efficiently by allocating the exact number of characters needed to store a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oids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existing reminder strings in order to make room for a new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itching from a two-dimensional array to an array of pointers requires changing only eight lines of the program (show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C2DF-BE86-4E7A-A69C-38DF587EA9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rints a one-month reminder list (dynamic string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REMIND 50   /* maximum number of remin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SG_LEN 60      /* max length of reminder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minders[MAX_REMI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day_str[3], msg_str[MSG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day, i, j, num_remi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9E3-3528-4E6C-81CE-1AA02EB4178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data structures, including arrays, are normally fixed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-size data structures can be a problem, since we’re forced to choose their sizes when writing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tunately, C suppor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ability to allocate storage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dynamic storage allocation, we can design data structures that grow (and shrink)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735-4CD2-4347-AD6F-9900A4272B3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um_remind == MAX_REMI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day and remind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2d", &amp;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ay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y_str, "%2d", 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msg_str, MSG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strcmp(day_str, reminders[i])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j = num_remind; j &gt; i;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j] = reminders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8660-DCDD-4E8B-A8A2-46F98B45C5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i] = malloc(2 + strlen(msg_str) +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minders[i]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minders[i], day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minders[i], msg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remind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Day Reminde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 %s\n", reminders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1A4-713B-4F68-95B4-770FAE5062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,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har()) != '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i &lt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++] =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] = 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023-5ADB-4285-86E0-3B4D0CEE98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Array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arrays have the same advantages as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lose relationship between arrays and pointers makes a dynamically allocated array as easy to use as an ordinar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allocate space for an arra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ometimes used instead, since it initializes the memory that it allo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us to make an array “grow” or “shrink”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0F0-AFA9-4DFF-A5AF-FDB7D479CD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a program need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mputed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first declare a point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known, the program ca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space for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malloc(n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to calculate the amount of space required for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D73-BAFA-46E1-9118-9208090B5F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ignore the fact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and use it instead as an array name, thanks to the relationship between arrays and pointers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could use the following loop to initialize the arra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lso have the option of using pointer arithmetic instead of subscripting to access the elements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C7B6-6307-4210-B30B-3CB8D9FE14F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alternativ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calloc(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s space for an array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lements, each of which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s a null pointer if the requested space isn’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s allocated memory by setting all bit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D1B-AE93-4975-AF1B-2D49AE2437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space for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calloc(n,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 as its first argument, we can allocate space for a data item of any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oint { int x, y; }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alloc(1, sizeof(struct po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018B-5406-4B25-8138-5FFFE4E4DC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an resize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realloc(void *ptr, 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a memory block obtained by a previous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s the new size of the block, which may be larger or smaller than the origin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16C-81E1-4D11-83BC-CC47C06B7A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expands a memory block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initialize the bytes that are added to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enlarge the memory block as requested, it returns a null pointer; the data in the old memory block is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a null pointer as its first argument, it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0 as its second argument, it frees the memory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2688-46F1-4E9A-80FF-B036CD5EE5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used most often for strings, arrays, and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structures can be linked together to form lists, trees, and other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done by calling a memory alloc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164-9FFA-4C98-82E9-3685557830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expec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reasonably effici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sked to reduce the size of a memory block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shrink the block “in plac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always attempt to expand a memory block without moving i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enlarge a block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llocate a new block elsewhere, then copy the contents of the old block into the new 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returned, be sure to update all pointers to the memory block in case it has been mo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C1B-48EF-453C-BCE9-108ABAFBF2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other memory allocation functions obtain memory blocks from a storage pool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hese functions too often—or asking them for large blocks of memory—can exhaust the heap, causing the functions to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ake matters worse, a program may allocate blocks of memory and then lose track of them, thereby wasting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9CDB-05BA-46D3-B374-22C3A143BB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napshot after the first two statements have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F59C-8846-4B89-9CC0-C1DE268D7F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1"/>
          <a:stretch/>
        </p:blipFill>
        <p:spPr>
          <a:xfrm>
            <a:off x="3276720" y="4243320"/>
            <a:ext cx="24699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h variables now point to the secon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no pointers to the first block, so we’ll never be able to use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F28-4D5C-46B9-B62E-FA3A09C087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3282840" y="2541600"/>
            <a:ext cx="25084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lock of memory that’s no longer accessible to a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leaves garbage behind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l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languages provid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utomatically locates and recycles garbage, but C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, each C program is responsible for recycling its own garbage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unneeded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6152-6A33-44EB-8B5E-F76FB96DE5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free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free(void *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passed a pointer to an unneede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leases the block of memor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C121-7182-483F-BB5F-CEB842BEF8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ds to a new problem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allocates the memory block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, but doesn’t chang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orget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 longer points to a valid memory block, chaos may ens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p = malloc(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the memory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is a serious err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2B7-B40A-459D-8633-9BC73E2C01D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 can be hard to spot, since several pointers may point to the same block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block is freed, all the pointers are left da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51CF-3AEE-4F84-BAE4-E694C6E432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especially useful for building lists, trees, graphs, and other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ked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sists of a chain of structures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ith each node containing a pointer to the next node in the ch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st node in the list contai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73DF-9440-47A8-BDDA-25767A2972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6" descr=""/>
          <p:cNvPicPr/>
          <p:nvPr/>
        </p:nvPicPr>
        <p:blipFill>
          <a:blip r:embed="rId1"/>
          <a:stretch/>
        </p:blipFill>
        <p:spPr>
          <a:xfrm>
            <a:off x="2286000" y="4425840"/>
            <a:ext cx="448164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inked list is more flexible than an array: we can easily insert and delete nodes in a linked list, allowing the list to grow and shrink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we lose the “random access” capability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element of an array can be accessed in the same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node in a linked list is fast if the node is close to the beginning of the list, slow if it’s near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DD13-354D-49F9-AA1F-1D3C8D0A3B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emory Allocation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declares three memory allocat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but doesn’t initializ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and clear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Resizes a previously allocated block of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turn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“generic”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CFF-5105-42F2-B2AA-8AD797F329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t up a linked list, we’ll need a structure that represents a sing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ode structure will contain data (an integer in this example) plus a pointer to the nex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;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o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x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oi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tag, 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ame, or there would be no way to declare the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B4C1-1ACE-49A7-B6D6-A71CDB0556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need a variable that always points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list is initially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FB4-9D40-4451-8C84-3BF77EB9CF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we construct a linked list, we’ll create nodes one by one, adding each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s involved in creating a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 memory for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e data in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 the node into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concentrate on the first two steps 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9AE1-F1C3-4E7F-8E8A-81179E69A3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reate a node, we’ll need a variable that can point to the node temporari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memory for the new node, saving the return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a block of memory just large enough to hol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A79-FC43-445E-83D1-14496DFD9B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2857680" y="5291280"/>
            <a:ext cx="33638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store data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ulting pi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mandatory be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would otherwise take precedence ov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03B-1CE0-44D1-A58F-2C92E6CC51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2846520" y="3576600"/>
            <a:ext cx="33638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member of a structure using a pointer is so common that C provides a special operator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operator,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ght arrow select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inus sign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, we ca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738A-C53F-493A-89DA-6DD04ED02A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produces an lvalue, so we can use it wherever an ordinary variable would b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is still required, even 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2EE-5CCE-4F86-B504-6A811A3E17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advantages of a linked list is that nodes can be added at any poi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beginning of a list is the easiest place to insert a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node to be inserted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first node in the link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EEDB-3278-48B0-86D1-E77ED602961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wo statements to insert the node in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step is to modify the new node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to point to the node that was previously at the beginning of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step is 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atements work even if the lis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23AC-E176-45E4-8E3F-27D0A86BA1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’s trace the process of inserting two nodes in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insert a node containing the number 10 first, followed by a node containing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91E-7B85-479E-B01F-11EDB3C8F9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memory allocation function can’t locate a memory block of the requested size, it return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ull pointer is a special value that can be distinguished from all vali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we’ve stored the function’s return value in a pointer variable, we must test to see if it’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ABFA-2ED8-4A49-9F14-FFE4B9B9CB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4708440" y="3352680"/>
            <a:ext cx="3686400" cy="12636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04F-0342-46FD-BFD3-CFD109B106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4699080" y="1676520"/>
            <a:ext cx="1365120" cy="1239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"/>
          <p:cNvPicPr/>
          <p:nvPr/>
        </p:nvPicPr>
        <p:blipFill>
          <a:blip r:embed="rId3"/>
          <a:stretch/>
        </p:blipFill>
        <p:spPr>
          <a:xfrm>
            <a:off x="4695840" y="4952880"/>
            <a:ext cx="3686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1"/>
          <a:stretch/>
        </p:blipFill>
        <p:spPr>
          <a:xfrm>
            <a:off x="4687920" y="4956120"/>
            <a:ext cx="3701880" cy="1222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A47-3450-4FB6-91E7-BDDAA8C4AA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"/>
          <p:cNvPicPr/>
          <p:nvPr/>
        </p:nvPicPr>
        <p:blipFill>
          <a:blip r:embed="rId2"/>
          <a:stretch/>
        </p:blipFill>
        <p:spPr>
          <a:xfrm>
            <a:off x="4686480" y="1685880"/>
            <a:ext cx="3708360" cy="12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3"/>
          <a:stretch/>
        </p:blipFill>
        <p:spPr>
          <a:xfrm>
            <a:off x="4726080" y="3368520"/>
            <a:ext cx="3679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A3A-49F1-457E-9510-6D6F768918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4700520" y="1685880"/>
            <a:ext cx="3679920" cy="1222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4726080" y="3343320"/>
            <a:ext cx="3668760" cy="1274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3"/>
          <a:stretch/>
        </p:blipFill>
        <p:spPr>
          <a:xfrm>
            <a:off x="4713120" y="4940280"/>
            <a:ext cx="36687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inserts a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a linked list, which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FF9F-B878-4D5F-96DB-116102DC83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pointer to the newly created node (now at the beginning of the l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’ll need to store its return value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upd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, rather than return a new valu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urns out to be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7C1A-074D-43C1-932A-AFDB92042E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us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reate a linked list containing numbers entered by the us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read_numbers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r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e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erminate)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s will be in reverse order within the li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66B-186C-4DAE-991E-3467B31803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can be used to search a lis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 is often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visits the nodes in a linked list, using a pointer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keep track of the “current”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first; p != NULL; p = p-&gt;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of this form can be used in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hat searches a list for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E66A-6A82-4629-A9B6-8D476A4C8EF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i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will return a pointer to the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, it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itial version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list; p != NULL; p = p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C84-17E2-448C-8480-0123AE3965B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many other ways to writ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lternative is to eliminate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instead u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to keep track of the current n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; 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list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copy of the original list pointer, there’s no harm in changing it within the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1228-C350-4870-9951-2644044BF1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 &amp;&amp; list-&gt;value !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lis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we reach the end of the list,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rrect even if we don’t f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A4E-CD80-41C1-B7F5-38ACF4BC93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of te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1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(defined in various library headers) that represents the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combin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p = malloc(10000))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B61-6213-4034-AFC4-D2D27F5C09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a bit clearer if we us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list != NULL &amp;&amp; list-&gt;value !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BA2-B6A6-4B66-97AC-3FDD3CA16C5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g advantage of storing data in a linked list is that we can easily delet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a node involves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e the node to be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 the previous node so that it “bypasses”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claim the space occupied by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1 is harder than it looks, because step 2 requires chang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various solutions to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1D7E-F663-4954-8E9A-792FF1EDDF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trailing pointer” technique involves keeping a pointer to the previous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s well as a pointer to the current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list to be search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integer to be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implements step 1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node to be delet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evious n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A32A-C029-451D-BB9C-D310DC47CF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B09-1E9F-4D39-92D9-7697154099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6" descr=""/>
          <p:cNvPicPr/>
          <p:nvPr/>
        </p:nvPicPr>
        <p:blipFill>
          <a:blip r:embed="rId1"/>
          <a:stretch/>
        </p:blipFill>
        <p:spPr>
          <a:xfrm>
            <a:off x="1106640" y="2538360"/>
            <a:ext cx="7107120" cy="58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1104840" y="4255920"/>
            <a:ext cx="71438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ue, 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a node and the node doesn’t contain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705-7F0D-4EC4-A641-E7156885CD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1106640" y="3914640"/>
            <a:ext cx="7115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gain true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xecuted once mor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the node containing 20, the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false and the loop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4A5-9D97-474E-BE4B-8B4ACCA3EB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1106640" y="3014640"/>
            <a:ext cx="709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perform the bypass required by ste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s the pointer in the previous node point to the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AD0-9FDF-4027-8405-5D31ED62F56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" descr=""/>
          <p:cNvPicPr/>
          <p:nvPr/>
        </p:nvPicPr>
        <p:blipFill>
          <a:blip r:embed="rId1"/>
          <a:stretch/>
        </p:blipFill>
        <p:spPr>
          <a:xfrm>
            <a:off x="939960" y="4052880"/>
            <a:ext cx="7164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3 is to release the memory occupied by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B120-4AEC-4715-87DA-F39DFB0609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uses the strategy just out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 list and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deletes the first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 node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either case, the function returns a pointer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the first node in the list is a special case that requires a different bypass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C55F-6A14-481A-BADD-68B4A4E591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delete_from_list(struct node *list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cur, *pre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=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            /* n was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       /* n is in the first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  /* n is in some other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372-AE46-410D-8C2C-CFD3B0CE39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 test true or false in the same way as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non-null pointers test true; only null pointers are fa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!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0F02-C898-4407-849D-902A84CFB6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rder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odes of a list are kept in order—sorted by the data stored inside the nodes—we say that the lis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ing a node into an ordered list is more difficult, because the node won’t always be put at the beginning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searching is faster: we can stop looking after reaching the point at which the desired node would have been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C84-BF94-4FE2-85E7-5AC492983F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a modification of the parts database program of Chapter 16, with the database stored in a linked list thi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using a link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need to put a limit on the siz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 can easily be kept sorted by part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the database wasn’t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E7A-6BD4-4FC8-9D09-AB090F52B7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will contain an additional member (a pointer to the next nod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720-D734-4D79-991B-1BBDD37485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functions in the new program will closely resemble their counterparts in the origina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more complex, however, since we’ll keep the nodes in the inventory list sorted by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ABC-13E1-4EE1-A892-84D20DABBF3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n index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pointer to the node that contains the desired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n’t find the part numb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9F3-58A7-49F5-9B49-21DF139312A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list of parts is sorted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stop when it finds a node containing a part number that’s greater than or equal to the desired par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arch 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we’ll need to test whether the part was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5FD-A012-44E6-8A63-62AB26864B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a new part in the next available array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w version must determine where the new part belongs in the list and insert i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also check whether the part number is already prese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accomplishes both tas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016F-D893-4DDE-8102-575A6B7EEE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loop terminat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check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qua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th are true, the part number is already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nsert a new node between the nodes point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trategy works even if the new part number is larger than any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original program, this version requir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of Chapter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4E09-A0F0-409D-8E44-8BEFE730E2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4120" y="761760"/>
            <a:ext cx="84549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aintains a parts database (linked list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"readline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   /* points to firs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DD0-3633-42FC-9C2C-A56DACBD6D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main: Prompts the user to enter an operation code,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then calls a function to perform the requested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action. Repeats until the user enters the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command 'q'. Prints an error message if the user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enters an illegal code.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operation cod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 %c", &amp;c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getchar() != '\n')   /* skips to end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83D-B42D-43E8-9F31-37CCE16BD4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often useful for working with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s are stored in character arrays, and it can be hard to anticipate how long these arrays ne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allocating strings dynamically, we can postpone the decision until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C74-9C96-4929-9415-2B8461C49F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 (co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i': inser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s': search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u': updat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p': print(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q': 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fault:  printf("Illegal cod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A5B4-6C5F-4E9F-B6B9-7C21FE373E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find_part: Looks up a part number in the inventory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list. Returns a pointer to the node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containing the part number; if the part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number is not found, returns NULL.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706-3CD1-45DD-8495-460CEC2699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insert: Prompts the user for information about a new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and then inserts the part into the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nventory list; the list remains sorted by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number. Prints an error message and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returns prematurely if the part already exists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or space could not be allocated for the part.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cur, *prev, *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par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abase is full; can't add more par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BDEA-A0D9-44B2-B7EB-71E8EDC13B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!= NULL &amp;&amp; new_node-&gt;number == cur-&gt;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already exis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new_n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am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new_node-&gt;name, NAME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cu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B2F-A954-4A37-A496-A2071D54E28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search: Prompts the user to enter a part number, then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looks up the part in the database. If the part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s, prints the name and quantity on hand;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f not, prints an error message.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ame: %s\n", p-&gt;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Quantity on hand: %d\n", 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876-6A83-42EA-BA13-001BB665DF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update: Prompts the user to enter a part number.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rints an error message if the part doesn't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; otherwise, prompts the user to enter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change in quantity on hand and updates the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database.      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,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change in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chan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 +=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768-ECB7-4504-8912-89F2EA6E39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print: Prints a listing of all parts in the database,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showing the part number, part name, and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quantity on hand. Part numbers will appear in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ascending order.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umber   Part Name                 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Quantity on Han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 p != NULL; 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7d       %-25s%11d\n", p-&gt;number, p-&gt;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93E9-462E-46E7-8458-F648C6261F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introduced the idea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cept of “pointers to pointers” also pops up frequently in the context of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when an argument to a function is a pointer variable, we may want the function to be abl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ing so requires the use of a pointer to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1B8-66D3-4472-9217-FC9D217C86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85800" y="1523520"/>
            <a:ext cx="7835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passed a pointer to the first node in a list; it returns a pointer to the first node in the upda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DB62-6C30-4890-857F-BBE8E5BFC8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o that it assig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point of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pied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function change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it point to the new nod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t af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551-63B4-49B5-8880-46DFA3A716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9920" y="7617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cates a block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and returns a point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unsigned integer type defined in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72C-8644-451D-8D9D-F57204BB23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dif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add_to_list(struct node *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*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 =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BCB-308E-484B-912B-7126CB9218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ew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the first argument will be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&amp;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lia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ssig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D92E-0AAD-4A85-9AC3-F4CDC6FF11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require that pointers point on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’s also possible to hav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occupy memory locations, so every function has an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use function pointers in much the same way we us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 a function pointer as an argument is fairly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947-263C-48D5-BD8F-C9B4D38844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name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a mathematical functio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as general as possible by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rgu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(*f)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 tha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a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prototyp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346-A855-42A6-82D5-A07CF6347B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sine) function from 0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 = integrate(sin, 0.0, PI /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unction name isn’t followed by parentheses, the C compiler produces a pointer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the bod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call the function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(*f)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)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23B-4902-454F-8E84-833F265D698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85800" y="761760"/>
            <a:ext cx="8026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incr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 (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(double)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, 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b - a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a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+= f(x)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8874-3CF4-45D6-971B-4A78F54488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of the most useful functions in the C library require a function pointer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s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belong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general-purpose sorting function that’s capable of sorting an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DA1-0FCD-4948-9FF5-4CA37D53996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told how to determine which of two array elements is “small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done by pas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pointer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two poin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rray elements, the comparison function must return an integer tha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less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equal to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greater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4BA-B0FB-491D-8CE4-F46C649F86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8"/>
          <p:cNvSpPr/>
          <p:nvPr/>
        </p:nvSpPr>
        <p:spPr>
          <a:xfrm>
            <a:off x="6507000" y="2079720"/>
            <a:ext cx="171000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481640" y="2079720"/>
            <a:ext cx="184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2771640" y="2079720"/>
            <a:ext cx="148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1371600" y="2394000"/>
            <a:ext cx="6324480" cy="30492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voi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(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(const void *, const void *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the first element in the array (or the first element in the portion to be s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elements to be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size of each array element, measured in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the 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550F-3F8D-43E0-9837-3B5FD92D7D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it sorts the array into ascending order, calling the comparison function whenever it needs to compare arra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or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of Chapter 1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inventory, num_part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uct part), compare_part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ares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829-B459-4A67-AC6B-33B3F5B4F5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6T13:03:25Z</dcterms:modified>
  <cp:revision>1070</cp:revision>
  <dc:subject/>
  <dc:title>No Slide Title</dc:title>
</cp:coreProperties>
</file>