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  <p:sldId id="388" r:id="rId146"/>
    <p:sldId id="389" r:id="rId147"/>
    <p:sldId id="390" r:id="rId148"/>
    <p:sldId id="391" r:id="rId149"/>
    <p:sldId id="392" r:id="rId150"/>
    <p:sldId id="393" r:id="rId151"/>
    <p:sldId id="394" r:id="rId152"/>
    <p:sldId id="395" r:id="rId153"/>
    <p:sldId id="396" r:id="rId154"/>
    <p:sldId id="397" r:id="rId155"/>
    <p:sldId id="398" r:id="rId156"/>
    <p:sldId id="399" r:id="rId157"/>
    <p:sldId id="400" r:id="rId158"/>
    <p:sldId id="401" r:id="rId159"/>
    <p:sldId id="402" r:id="rId160"/>
    <p:sldId id="403" r:id="rId161"/>
    <p:sldId id="404" r:id="rId162"/>
    <p:sldId id="405" r:id="rId163"/>
    <p:sldId id="406" r:id="rId164"/>
    <p:sldId id="407" r:id="rId165"/>
    <p:sldId id="408" r:id="rId166"/>
    <p:sldId id="409" r:id="rId167"/>
    <p:sldId id="410" r:id="rId168"/>
    <p:sldId id="411" r:id="rId169"/>
    <p:sldId id="412" r:id="rId170"/>
    <p:sldId id="413" r:id="rId171"/>
    <p:sldId id="414" r:id="rId172"/>
    <p:sldId id="415" r:id="rId173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slide" Target="slides/slide133.xml"/><Relationship Id="rId147" Type="http://schemas.openxmlformats.org/officeDocument/2006/relationships/slide" Target="slides/slide134.xml"/><Relationship Id="rId148" Type="http://schemas.openxmlformats.org/officeDocument/2006/relationships/slide" Target="slides/slide135.xml"/><Relationship Id="rId149" Type="http://schemas.openxmlformats.org/officeDocument/2006/relationships/slide" Target="slides/slide136.xml"/><Relationship Id="rId150" Type="http://schemas.openxmlformats.org/officeDocument/2006/relationships/slide" Target="slides/slide137.xml"/><Relationship Id="rId151" Type="http://schemas.openxmlformats.org/officeDocument/2006/relationships/slide" Target="slides/slide138.xml"/><Relationship Id="rId152" Type="http://schemas.openxmlformats.org/officeDocument/2006/relationships/slide" Target="slides/slide139.xml"/><Relationship Id="rId153" Type="http://schemas.openxmlformats.org/officeDocument/2006/relationships/slide" Target="slides/slide140.xml"/><Relationship Id="rId154" Type="http://schemas.openxmlformats.org/officeDocument/2006/relationships/slide" Target="slides/slide141.xml"/><Relationship Id="rId155" Type="http://schemas.openxmlformats.org/officeDocument/2006/relationships/slide" Target="slides/slide142.xml"/><Relationship Id="rId156" Type="http://schemas.openxmlformats.org/officeDocument/2006/relationships/slide" Target="slides/slide143.xml"/><Relationship Id="rId157" Type="http://schemas.openxmlformats.org/officeDocument/2006/relationships/slide" Target="slides/slide144.xml"/><Relationship Id="rId158" Type="http://schemas.openxmlformats.org/officeDocument/2006/relationships/slide" Target="slides/slide145.xml"/><Relationship Id="rId159" Type="http://schemas.openxmlformats.org/officeDocument/2006/relationships/slide" Target="slides/slide146.xml"/><Relationship Id="rId160" Type="http://schemas.openxmlformats.org/officeDocument/2006/relationships/slide" Target="slides/slide147.xml"/><Relationship Id="rId161" Type="http://schemas.openxmlformats.org/officeDocument/2006/relationships/slide" Target="slides/slide148.xml"/><Relationship Id="rId162" Type="http://schemas.openxmlformats.org/officeDocument/2006/relationships/slide" Target="slides/slide149.xml"/><Relationship Id="rId163" Type="http://schemas.openxmlformats.org/officeDocument/2006/relationships/slide" Target="slides/slide150.xml"/><Relationship Id="rId164" Type="http://schemas.openxmlformats.org/officeDocument/2006/relationships/slide" Target="slides/slide151.xml"/><Relationship Id="rId165" Type="http://schemas.openxmlformats.org/officeDocument/2006/relationships/slide" Target="slides/slide152.xml"/><Relationship Id="rId166" Type="http://schemas.openxmlformats.org/officeDocument/2006/relationships/slide" Target="slides/slide153.xml"/><Relationship Id="rId167" Type="http://schemas.openxmlformats.org/officeDocument/2006/relationships/slide" Target="slides/slide154.xml"/><Relationship Id="rId168" Type="http://schemas.openxmlformats.org/officeDocument/2006/relationships/slide" Target="slides/slide155.xml"/><Relationship Id="rId169" Type="http://schemas.openxmlformats.org/officeDocument/2006/relationships/slide" Target="slides/slide156.xml"/><Relationship Id="rId170" Type="http://schemas.openxmlformats.org/officeDocument/2006/relationships/slide" Target="slides/slide157.xml"/><Relationship Id="rId171" Type="http://schemas.openxmlformats.org/officeDocument/2006/relationships/slide" Target="slides/slide158.xml"/><Relationship Id="rId172" Type="http://schemas.openxmlformats.org/officeDocument/2006/relationships/slide" Target="slides/slide159.xml"/><Relationship Id="rId173" Type="http://schemas.openxmlformats.org/officeDocument/2006/relationships/slide" Target="slides/slide160.xml"/><Relationship Id="rId1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0AE5-7715-42A8-AE18-23CA34F31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06013-8C1D-4F66-87E0-FC352362425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039A2-6FF1-4D11-ACC2-2CB17EABC40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97E5C-954E-4630-94B3-E86D8D718E5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D46DC-94D0-4727-BB54-91288A4455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85CB0-F970-4F2B-AEFF-DAECAC04548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B6206-14EB-4373-A968-3973D6A4C6A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63A52-5668-49B1-8CE6-7314819C69D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F4DE6-432B-470F-92FD-A5F6323F36F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CDF8-B1F0-4691-AF5E-18DE94875BC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1D327-D561-404B-800B-9ADEC559BB3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79755-864A-49DB-B6EA-6A3BBAD37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AC93-BE39-4F44-97EC-11F7AC7868A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A39BB-3F0C-445F-A4DD-8519D4B3BD9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16386-D494-48C0-81F1-B6A1C590DB5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3CA8D4-BCC6-4C26-BC73-C271BEE1A7C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712D7-8DFE-4B4E-857E-3DE642FF668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EE7E3-D4D8-4802-BE93-79D8359813D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84384-A91B-4EFF-A767-FC3F42D06F7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39A51-132F-48CC-AE5C-4DB0046BD0B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2F4DB0-B066-4FF4-A9BB-64B433FAFA7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8300F-DE24-48E7-A03B-52D5D96A7F4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81BA07-F2B9-4157-AC50-C983913D4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A496-BE9A-4064-B4E1-93805CCDFA5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D44A4-FBC6-49BA-96F4-DB887E1F5EC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73360D-47E5-4F1F-B97F-E809AE0A38A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9134AF-13BF-45A3-BC5F-A94E027C76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042633-51B5-45BF-AC9F-324728230AD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0C4169-0A76-4B99-8991-BD484BD8D2B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13D4CB-FE8C-4B50-ACD6-85354FC40EE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037F05-7EFC-47B7-911A-1D6304CF9A0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DFA02A-301B-4EAD-86A6-D92DC0123F4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1B7EBF-CDFA-4B2E-A54B-A808C840AA8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4658A9-A492-45D1-BB7D-4094925ED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44E98-2669-41B7-B76B-AACEC89E6C0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32BBDF-1B73-41E8-9E36-D6E06964B30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21D83-3367-4D65-9F84-9ECBBCB0241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DEE7CC-DF79-4107-AD78-AA3EED43A89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F731B-6EDB-46B7-9BF5-B7B4CC8D12B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1D010-C4CB-416E-975A-BB570C5C85C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7206B-89C5-4795-9383-AC91E26241A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6D353-3A02-4974-B3AE-F15A4C90F97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D8222-34E7-4A1E-9D07-BF0C558F8C8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8159B-FBF6-411B-8E95-14DA9C1C4D6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20DB9-DA7A-45AE-8C1C-989895AF01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43E91-88C0-4A44-9118-E88C90F10C5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6A9A8-238D-453D-A0FC-1AAF0559EF5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DA87F-E969-4FC4-A989-712DF927197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CE28F-50A9-4863-982D-299F16A77A7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027F6-368F-4FF9-A894-EE1BD72EB92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67C53-7081-4E1D-96F1-0B81D896A4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496E6-024F-4B17-BAB6-4FE657BC54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C81FF-7AD0-40E2-B29D-D82FCB3E6C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90AA1-E3DD-44C5-B9FF-4466E7DFF9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4D95E-5EAE-4D8B-8611-D297136DC3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D63DA-7295-426A-8988-B8E840EB95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CAEE-2212-4F0A-B382-376280007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E7E34-5927-4FBB-A16C-C1950FDB0B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36E1F-5937-4C58-90DB-F148AEE38C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9E153-12F4-4557-B1BF-1E31809A30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99E2B-0CF4-4A21-9CFF-1AD78D6953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B4538-2D69-4FCB-A5C3-536BB6DBC1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6D67-1667-4909-9314-999817CE57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D1B1-0374-4722-801D-CA92BF89E2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BC44-0300-4358-81AE-06CB96875E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4227-4C0C-41F1-9E61-AE0BE01BCF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B420-4A13-4A57-AC88-36ADEF2872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C865-C1FB-409C-A0BA-85ADE9B51C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6263-5FB5-49A2-ABE0-279F1F0981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A6EF-26AD-424A-B888-5B9C517726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A517-FB1E-4E51-8170-317D501D30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2D2F-025C-4085-A3D2-1089145098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CC43-1A1D-4C39-9E1E-E36C666A4B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5424-833C-47F7-A6B3-16A695A00F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7CE7-940C-4574-8D4A-F46D054AA8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B9EE1-C613-404E-A58D-EA3797A44A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B67D6-B738-473C-96C4-68BACFB368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DCA26-AD7C-4D35-8EA6-41D08E327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EF6E-B46A-43BE-B8D6-A973A1F8EF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401E3-E817-4151-83F1-A80F6B03CE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7E45C-9863-4479-9A4C-113BB3F338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62C28-654F-4F79-9BD0-D711417124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0CB97-27D9-47DB-9217-D2AB55E746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68F17-A278-4E98-819F-AFCD15C024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4AF8A-9389-4E44-B0DA-3A808FCE7F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FEB38-C30C-4B05-B7DE-3C3245447C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C240C-8539-4C05-B2A5-8F717FF29F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ED74C-905A-4F32-82F6-0212496CAF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510A89-2FA5-4079-8AAA-8D08DF90C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546C-1725-4E9D-B461-A7BAA92D8C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380E6-0541-4D51-B238-38460BC076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1A43F-3522-48FF-ABA0-DB1670BCE2A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3C482-EE0B-454F-9F53-7F241A361CF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F671D-0D5B-4F6E-BB99-E855A152DB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AE38AF-38AC-4473-A1BF-00D4D853A69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20926-8BD4-48DE-9747-D0DAAB2D30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6B0E87-C06B-4725-897E-3D6BC0AD65C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7531A-BC09-4A99-913F-3FAB95C65CB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00C58E-4EED-49D0-80F1-424FC93837A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D544A-5DB5-4771-AA27-44FF37E68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584E4-AFA4-4EA9-92F0-E85463FDBE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EBA3CD-CE2F-4CEF-A243-110D42CFE39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4080E-6AF3-4140-981C-BE4F2AFAB60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AEF7-591F-41A0-A02D-6140CC684F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A4ADC-E515-47AA-8943-E2DA2C728FC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7211-5BCD-43C8-8D96-01B14E8ACD6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B31D-175A-4137-B306-22568D9599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65F34-506A-4EA2-B3E3-EAF5FE9C77D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BB18B-3DB0-4871-B88B-37081418DC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1EF25-7840-4E88-9E20-89D61D8113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91C9-233B-4BC7-8D74-8A9F81A19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B07C-2CD8-4C3F-8A8B-05F012E91EA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5C560-E795-4848-B408-4C1804BE04F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74B3-879F-45D2-B997-789DA0C6BE2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B9FFB-05B0-49B3-8748-EFFF6124CEC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076D3-5FD8-4B7E-854F-0548FEB3F2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DF461-167A-48B7-98A5-1C7B149F99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F10B0-6CED-4C5D-8CAF-6803C26147F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D18D0-2867-4B52-A7C0-266B7590068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38AB7-9F4A-44EC-A94E-B13AADA368D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7B876-27B0-4608-BB25-BF46839A8C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748E2-BCBA-4242-85B2-723125F50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D9633-E1D6-492A-BC1C-D6DC2F7B35C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98D3A-E676-4815-AC10-BC895DA1384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72DD5-5470-4EBB-B961-9F99B2E5053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A2277-427A-426C-B06B-CEF1BA8F037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34EA4-0B67-46F2-8025-059BA66CB21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514D9-5EEB-4EF7-864E-C9D11D32DD0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0BFD09-C35C-4648-BDCE-B4E49FA1B97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97D296-FB81-4821-8167-750D6E015D9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23A86E-3766-4C5A-8CE6-93932AAE1B0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5D6645-7C2A-4750-9A86-CDB7F88A2D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D1A9AE-3D9B-44A7-BDD6-C6FB0303F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1B02-8FDD-4429-A32E-654730B5008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3E0766-ABFD-4D41-B9D3-9E913AE965A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485B6D-F67F-4544-889B-91474A37AF7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ADACF-A07B-439A-89C9-08402405590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D1187B-8082-4FB8-9DEB-A551D3D3EE8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EA1E45-8DF2-4156-BBBA-0A8DC3E020A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37AD8-BA1F-4AE9-A4FA-184E2620F6D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FBB025-85F9-410D-B381-F37B1CB3B9F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23ADA-4708-4130-89F1-2549866C7D7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74538-4349-424A-8362-62201E92FA1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622F3-7659-42C5-81DA-B9339D35E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72CC-964B-4A40-8499-672418E00BA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42B0-B30A-4BEF-9756-CFD3A06B5A5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B952-F9CA-42DB-B6F3-0DA30B1D5E4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52A9-8B6D-41C5-9A47-71D780797BF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9EBF-36BC-450F-95BA-C8EF1EE9266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0C3F-812F-49EF-8352-DFF2F812282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5D89-7B8D-4DB8-97A8-B33F6CB706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AE48-38E9-45E2-B261-CD078DD7064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D07B-A1D4-4D2D-A52C-737C8BC92D8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F130-442D-4462-9E05-A10F2B0E51D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D475-CD78-4364-879F-A2717154FF6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6D41-FFD1-486A-A5AB-F06023EDF54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E38B-3E5A-4444-A574-B3984F9DD1C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pter 22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nput/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redirection and output redirection can be comb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in.dat &gt;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 don’t have to be adjacent to file names, and the order in which the redirected files are listed doesn’t mat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 in.dat &gt; 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gt;out.dat &lt;in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10D0-41AF-42B3-B48D-C79C33083EC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99 Changes to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changes to the conversion specification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leng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conversion spec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ility to read infinity and 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rt for wid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3171-B8F4-40FE-BA7A-8CD9F4FE6BC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three tables contain sample 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s printed in strikeout are consumed by the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BEB9-0202-4A41-B449-A924B40F5D5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6"/>
          <p:cNvSpPr/>
          <p:nvPr/>
        </p:nvSpPr>
        <p:spPr>
          <a:xfrm>
            <a:off x="4165560" y="2741760"/>
            <a:ext cx="12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that combine conversion specifications, white-space characters, and non-white-space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,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 ,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, 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E14E-F94B-40D1-9690-FD229581B72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traight Connector 12"/>
          <p:cNvSpPr/>
          <p:nvPr/>
        </p:nvSpPr>
        <p:spPr>
          <a:xfrm>
            <a:off x="5372280" y="4646520"/>
            <a:ext cx="10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traight Connector 10"/>
          <p:cNvSpPr/>
          <p:nvPr/>
        </p:nvSpPr>
        <p:spPr>
          <a:xfrm>
            <a:off x="5384880" y="5537160"/>
            <a:ext cx="291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Straight Connector 14"/>
          <p:cNvSpPr/>
          <p:nvPr/>
        </p:nvSpPr>
        <p:spPr>
          <a:xfrm>
            <a:off x="5359320" y="2857680"/>
            <a:ext cx="438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Straight Connector 10"/>
          <p:cNvSpPr/>
          <p:nvPr/>
        </p:nvSpPr>
        <p:spPr>
          <a:xfrm>
            <a:off x="5370480" y="3746520"/>
            <a:ext cx="291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assignment suppression and specifying a field wid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Inpu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*d%d", &amp;i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*s%s", str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My•Fair•Lady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"Fair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1d%2d%3d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45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 &amp;j, &amp;k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2d%2s%2d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456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 str, &amp;j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"34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2315-74C9-4436-9871-D98D6E42098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traight Connector 6"/>
          <p:cNvSpPr/>
          <p:nvPr/>
        </p:nvSpPr>
        <p:spPr>
          <a:xfrm>
            <a:off x="4660920" y="2857680"/>
            <a:ext cx="731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traight Connector 8"/>
          <p:cNvSpPr/>
          <p:nvPr/>
        </p:nvSpPr>
        <p:spPr>
          <a:xfrm>
            <a:off x="4635360" y="3478320"/>
            <a:ext cx="1051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traight Connector 12"/>
          <p:cNvSpPr/>
          <p:nvPr/>
        </p:nvSpPr>
        <p:spPr>
          <a:xfrm>
            <a:off x="4660920" y="4064040"/>
            <a:ext cx="731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traight Connector 14"/>
          <p:cNvSpPr/>
          <p:nvPr/>
        </p:nvSpPr>
        <p:spPr>
          <a:xfrm>
            <a:off x="4660920" y="5245200"/>
            <a:ext cx="90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that illustrat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Inpu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i%i%i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j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k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012•0x12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abc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123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bc123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^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bc123¤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c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*d%d%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j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0•20•30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F485-32AF-41D0-BAAC-10F1252DFF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traight Connector 6"/>
          <p:cNvSpPr/>
          <p:nvPr/>
        </p:nvSpPr>
        <p:spPr>
          <a:xfrm>
            <a:off x="5334120" y="2502000"/>
            <a:ext cx="1536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traight Connector 8"/>
          <p:cNvSpPr/>
          <p:nvPr/>
        </p:nvSpPr>
        <p:spPr>
          <a:xfrm>
            <a:off x="5334120" y="3706920"/>
            <a:ext cx="430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traight Connector 8"/>
          <p:cNvSpPr/>
          <p:nvPr/>
        </p:nvSpPr>
        <p:spPr>
          <a:xfrm>
            <a:off x="5335560" y="4952880"/>
            <a:ext cx="430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Straight Connector 8"/>
          <p:cNvSpPr/>
          <p:nvPr/>
        </p:nvSpPr>
        <p:spPr>
          <a:xfrm>
            <a:off x="5348160" y="55627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ask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ad and st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 items, we expect its return value t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return value is less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mething went wr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-of-fi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unction encountered end-of-file before matching the format string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err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unction was unable to read characters from the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failu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data item was in the wrong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6683-5E16-4020-A39C-B3DC6F73D1D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 stream has two indicators associated with it: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rror indic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-of-file indicat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indicators are cleared when the stream is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untering end-of-file sets the end-of-file indicator, and a read error sets the error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rror indicator is also set when a write error occurs on an output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82f2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Times New Roman"/>
                <a:ea typeface="新細明體"/>
              </a:rPr>
              <a:t>A matching failure doesn’t change either indic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BF8D-C9D3-4094-9944-04B0A3265EE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error or end-of-file indicator is set, it remains in that state until it’s explicitly cleared, perhaps by 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lears both the end-of-file and error indic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(fp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dicator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needed often, since some of the other library functions clear one or both indicators as a side eff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06C0-8E1F-45D0-8980-3B3645EB30D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can be used to test a stream’s indicators to determine why a prior operation on the stream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 if the end-of-file indicator is set for the stream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 if the error indicator is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89F8-8F40-42B7-9B15-1E46DEB75AB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smaller-than-expected valu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to determine the rea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, the end of the input file has been rea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, a read error occurred during in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either returns a nonzero value, a matching failure must have occur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turn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how many data items were read before the problem occur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413A-4437-42E2-AC02-D259743D3DB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problem with output redirection is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ten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ut into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error messag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uarantees that they will appear on the screen even 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redir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2B40-9053-481C-943B-90B52898AA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an example that shows ho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ight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earches a file for a line that begins with an inte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find_int("fo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value of the integer that it finds or an error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can’t be o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line begins with an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3A8E-665A-408B-9AC1-4830FDF55BD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find_int(const char *file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 = fopen(filename, "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p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               /* can't open f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fscanf(fp, "%d", &amp;n) != 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error(fp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2;             /* read erro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eof(fp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3;             /* integer not fou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(fp, "%*[^\n]");   /* skips rest of lin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ED4B-9F5C-47B8-BAB1-2B1E54ECCAF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racter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group of library functions can read and write single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work equally well with text streams and binary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treat characters as valu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reason is that the input functions indicate an end-of-file (or error) condition by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a negative integer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E554-0471-447B-836A-64A0E5019B8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s one character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e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(ch);    /* writes ch to stdout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 a character to an arbitrary stre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(ch, fp);  /* writes ch to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(ch, fp);   /* writes ch to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ually implemented as a macro (as well as a function), wh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implemented only as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5B4F-8060-47FB-8091-8314D2043E9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 is usually a macro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putchar(c) putc((c), stdou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 standard allows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cro to evaluate the stream argument more than once, which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permitted to d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ers usually prefe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gives a faster progr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write error occurs, all three functions set the error indicator for the stream and retur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they return the character that was writt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CECB-A863-477F-8734-3CFF2E35C5A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a character from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getchar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 a character from an arbitrary strea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fgetc(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getc(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three functions treat the character as a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(which is then converted to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 before it’s returned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a result, they never return a negative value other tha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895B-8F5D-420C-B867-69FE168789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ually implemented as a macro (as well as a function), wh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implemented only as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ormally a macro as w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getchar() getc(std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ers usually pref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v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2F55-831B-4A9D-B4E2-B25FEF6A773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behave the same if a problem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end-of-file, they set the stream’s end-of-file indicator and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read error occurs, they set the stream’s error indicator and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differentiate between the two situations, we can call ei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8C81-AF43-4896-8E17-395139E42C4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 most common us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o read characters from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op for that purp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(fp)) != EOF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store the return value i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, no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sting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 again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give the wrong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2221-E2D6-40E0-9250-24FF263B33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“pushes back” a character read from a stream and clears the stream’s end-of-file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reads a series of digits, stopping at the first nondig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isdigit(ch = getc(fp))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(ch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pushes back last character rea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4F46-51AB-4CAB-B3CD-79C368A155E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upports two kinds of files: text and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ytes 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present characters, allowing humans to examine or edit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ource code for a C program is stored in a tex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inary fil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don’t necessarily represent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oups of bytes might represent other types of data, such as integers and floating-point numb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ecutable C program is stored in a binary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BB86-0397-48CC-A78A-E4FE5B02EA3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 of characters that can be pushed back by consecutive 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es; only the first call is guaranteed to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a file-positioning func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causes the pushed-back characters to be l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character it was asked to push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attempt is made to push back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to push back more characters than all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A3A4-06AD-4F5C-8C36-7A42BC435A9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opy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makes a copy of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ames of the original file and the new file will be specified on the command line when the program is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opy the f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1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 f1.c f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issue an error message if there aren’t exactly two file names on the command line or if either file can’t be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C018-756F-4BEB-8CEE-AFD9FA0434F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opy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le modes enabl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opy both text and bin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us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, the program wouldn’t necessarily be able to copy bin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54DC-0532-432F-AFF8-C6E430EFF8D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opies a f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source_fp, *dest_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argc != 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usage: fcopy source dest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4F06-BEE1-4D6C-8C0D-B483CB1574F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source_fp = fopen(argv[1], "rb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%s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dest_fp = fopen(argv[2], "wb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%s\n", argv[2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source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(source_fp)) != EO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(ch, dest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source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dest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93E0-A45E-49DC-B599-2FCDA95A41D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e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brary functions in the next group are able to read and write 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are used mostly with text streams, although it’s legal to use them with binary stream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5565-6CFB-41A2-978E-543B9EEB6E0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writes a string of character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("Hi, there!");  /* writes to stdout 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it writes the characters in the string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adds a new-line character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0B27-A66D-4441-81DA-C4B0386CC4A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ore gener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s second argument indicates the stream to which the output should be writ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("Hi,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re!",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write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doesn’t write a new-line character unless one is present in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 write error occurs; otherwise, they return a nonnegativ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CF99-A26C-41E5-80EA-B84DDE9057E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ads a line of input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(str); /* reads a line from stdi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characters one by one, storing them in the array 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until it reads a new-line character (which it discar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ore gener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read from any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so saf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ince it limits the number of characters that it will s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C9CE-6A3F-4AC0-81A5-393076A063F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s a line into a character array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characters until it reaches the first new-line character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st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1 characters have been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reads the new-line charac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it along with the other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D556-28FF-4493-A099-40728B9CE8E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have two characteristics that binary files don’t poss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are divided into lin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line in a text file normally ends with one or two special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ndows: carriage-return charac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0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followed by line-feed charac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0a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IX and newer versions of Mac OS: line-feed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lder versions of Mac OS: carriage-return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E2E1-A4E3-4411-BD04-D49D97FAF2B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 a null pointer if a read error occurs or they reach the end of the input stream before storing any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both return their first argument, which points to the array in which the input was sto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store a null character at the end of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8D99-424F-4D72-AD53-82B81EE8A52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be used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most si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afe to use only when the string being rea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uarant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fit into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re’s no guarantee (and there usually isn’t), it’s much safer to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from the standard input stream if pass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its third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std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4AF0-954C-427D-B33A-A6B65313D16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allow a program to read and write large blocks of data in a single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used primarily with binary streams, although—with care—it’s possible to use them with text stream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E8AD-8811-43B4-AF31-322B0162D65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designed to copy an array from memory to a stre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s in 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ress of arr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ze of each array element (in byte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elements to wri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rites the entire contents of the arra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a, sizeof(a[0]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a) / sizeof(a[0]), 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D505-93EA-41E5-AC97-CD8F2B9E626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elements actually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number will be less than the third argument if a write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3E7C-0320-44D3-B949-9C2D5DF1538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the elements of an array from a stre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s the contents of a file into the arra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fread(a, sizeof(a[0]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a) / sizeof(a[0]), 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 indicates the actual number of elements re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number should equal the third argument unless the end of the input file was reached or a read error occurr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068E-8245-4FF8-8314-53182A13F62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nvenient for a program that needs to store data in a file before termin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ter, the program (or another program)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ad the data back into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ata doesn’t need to be in array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rites a structur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&amp;s, sizeof(s), 1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3789-2A5E-4ED0-B6DD-5CEF19046BA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 stream has an associat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si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ile is opened, the file position is set at the beginning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“append” mode, the initial file position may be at the beginning or end, depending on the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read or write operation is performed, the file position advances automatically, providing sequential acces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8012-7664-407F-8D4E-1E2F40D90FF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sequential access is fine for many applications, some programs need the ability to jump around within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file contains a series of records, we might want to jump directly to a particular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five functions that allow a program to determine the current file position or to chang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7074-29F5-4A21-BF1D-D4E6CE5A102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changes the file position associated with the first argument (a file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hird argument is one of three mac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ginning of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rrent file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 of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ond argument, which has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s a (possibly negative) byte 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B8F6-4E2F-491F-954A-3C2981356CF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may contain a special “end-of-file” mark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Windows, the marker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1a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Ctrl-Z), but it is not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ther operating systems, including UNIX, have no special end-of-file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binary file, there are no end-of-line or end-of-file markers; all bytes are treated eq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0BB7-7505-4C3F-9150-E188739FC82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to the beginning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0L, SEEK_S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to the end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0L, SEEK_EN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back 10 by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-10L, SEEK_CU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n error occurs (the requested position doesn’t exist, for example)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012C-A81F-4F7A-BC2C-91DA47324C4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le-positioning functions are best used with binary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doesn’t prohibit programs from using them with text streams, but certain restrictions app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text stream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only to move to the beginning or end of a text stream or to return to a place that was visited previou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binary stream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required to support calls in which the third argumen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498C-AC3B-4A30-A3E1-A23DA6DDE23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turns the current file position as a long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value return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be saved and later supplied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 file_p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 = ftell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saves current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file_pos, SEEK_S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turns to old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D7B2-97F0-42F7-8D3A-F22F1BF92F9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binary stream, 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current file position as a byte count, where zero represents the beginning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text stre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necessarily a byte 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a result, it’s best not to perform arithmetic on values return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7947-1597-40F9-A33B-F3288C3D5EB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sets the file 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early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0L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SE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ifference?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return a value but does clear the error indicator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61D5-33F3-4692-A3D9-305E013C142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limited to files whose positions can be stored in a long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working with very large files, C provides two additional function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can handle large files because they use valu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present file 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isn’t necessarily an integer; it could be a structure, for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33D3-0CA4-47FC-BFC9-8D32E2D8F6A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file_po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the file position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file_po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ets the file position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the value sto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ails, it stores an error cod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zero when they succeed and a nonzero value when they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0713-CB20-4833-9E1E-41D15473D51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ave a file position and return to it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 file_p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(fp, &amp;file_p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saves current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(fp, &amp;file_p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turns to old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1159-C8BC-498D-9A03-899A2902EB6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odifying a File of Part Record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ons perform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clear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s a binary file containing part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s the structures into a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n_h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of each structur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structures back to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opens the fil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+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ode, allowing both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0E3A-200A-469D-A8D1-DE033A65DD3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clear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Modifies a file of part records by setting 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on hand to zero for all record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NAME_LEN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AX_PARTS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inventory[MAX_PAR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_par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D385-7AA0-4E39-BBE5-2D8F0CE9A63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data is written to a file, it can be stored in text form or in binary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way to store the number 32767 in a file would be to write it in text form as the characters 3, 2, 7, 6, and 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68B0-8DB2-4647-8A1A-4209753BE66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6" descr=""/>
          <p:cNvPicPr/>
          <p:nvPr/>
        </p:nvPicPr>
        <p:blipFill>
          <a:blip r:embed="rId1"/>
          <a:stretch/>
        </p:blipFill>
        <p:spPr>
          <a:xfrm>
            <a:off x="1190520" y="3924360"/>
            <a:ext cx="6696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"inventory.dat", "rb+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inventory fil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parts = fread(inventory, sizeof(struct part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X_PARTS, 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parts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[i].on_han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inventory, sizeof(struct part), num_parts, 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9987-44B0-4274-84C0-AB29E3B37F8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ing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described in this section can read and write data using a string as though it were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 characters into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characters from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9C5F-6D5D-4E0C-B22A-69AFD073C8D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ing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ee similar function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lso belong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rely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which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arg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they are discussed in Chapter 2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14B9-7BDE-440A-93C6-BDB912BC419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writes output into a character array (pointed to by its first argument) instead of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writ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9/20/2010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(date, "%d/%d/%d", 9, 20, 20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dds a null character at the end of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the number of characters stored (not counting the null charac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BFC6-A801-4BE5-B5BA-3A6E43337E8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to format data, with the result saved in a string until it’s time to produc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so convenient for converting numbers to character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B568-9589-4F74-965A-E40A5E443FF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(new in C99) is the same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except for an additional second parameter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more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1 characters will be written to the string, not counting the terminating null character, which is always written unle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(name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3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%s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%s"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Einstein"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Albert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Einstein, Al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written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09CE-D621-40F2-9EAA-2400F77AC78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characters that would have been written (not including the null character) had there been no length restri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n encoding error occur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egativ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ee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d room to write all the requested characters, we can test whether its return value was nonnegative and less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DC5F-4945-4BC5-A29B-1E4DD0AE1BD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similar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from a string (pointed to by its first argument) instead of reading from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cond argument is a format string identical to that us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09B1-4C68-4E2F-84C7-B3AFA6212A2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handy for extracting data from a string that was read by another inpu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obtain a line of input, then passes the lin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further proces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std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a line of inpu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(str, 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extracts two integer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16A8-00F5-4BB8-B595-A46A4BED5BA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advantage of using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at we can examine an input line as many times as need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makes it easier to recognize alternate input forms and to recover from err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problem of reading a date that’s written either in the form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(sscanf(str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"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/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/%d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year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Month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\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(sscanf(str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"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-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-%d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year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Month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\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Dat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no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ope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m\n");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A26E-6D0B-4B91-BE64-B4BFD6D4326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ther option is to store the number in binary, which would take as few as two by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oring numbers in binary can often save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23DB-57B8-47A9-9929-43475CA03A9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tretch/>
        </p:blipFill>
        <p:spPr>
          <a:xfrm>
            <a:off x="3187800" y="2552760"/>
            <a:ext cx="27032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k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data items successfully read and st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it reaches the end of the string (marked by a null character) before finding the first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A4F4-BD41-4F35-84F8-43114C46783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s that read from a file or write to a file must take into account whether it’s text or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rogram that displays the contents of a file on the screen will probably assume it’s a tex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ile-copying program, on the other hand, can’t assume that the file to be copied is a tex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does, binary files containing an end-of-file character won’t be copied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an’t say for sure whether a file is text or binary, it’s safer to assume that it’s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9CE6-EF74-4BEF-81AB-34AC6E89C37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icity is one of the attractions of input and output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fortunately, redirection is too limited for many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program relies on redirection, it has no control over its files; it doesn’t even know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irection doesn’t help if the program needs to read from two files or write to two files at the sam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redirection isn’t enough, we’ll use the file operation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01CC-8F8F-4067-A1C1-7AF239419FE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ing a file for use as a stream requires 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open(const char *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filenam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char *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mod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ame of the file to be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argument may include information about the file’s location, such as a drive specifier or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“mode string” that specifies what operations we intend to perform on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5152-8CBD-4DBC-802E-78784F95442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’s input/output library is the biggest and most important part of the standard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 is the primary repository of input/output functions, includ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chapter provides more information about these six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also introduces many new functions, most of which deal with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9FDB-D758-498E-831E-26191AAD4AC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ppears twice in the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a C99 keyword, indicate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point to strings that don’t share memory lo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89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conta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ut is otherwise 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no effect on the behavior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it can usually be ign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C08A-956A-4B08-B9F6-EBE5BE5D328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Windows, be careful when the file name in a call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cludes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\project\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ll fail, becaus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reated as a character escap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way to avoid the problem is to us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\\project\\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lternative is to use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 instead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/project/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DB1C-855F-4A92-99F0-F68D26BA5E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file pointer that the program can (and usually will) save in a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 = fopen("in.dat", "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opens in.dat for reading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it can’t open a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EC94-2BBD-48B7-B397-B8237B6AAB9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ctors that determine which mode string to pas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ch operations are to be performed o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ther the file contains text or bin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1E46-3CAD-4A76-A1C1-5302E2E342F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 strings for text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writ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append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, starting at 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truncate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+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append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CAC6-4957-4A34-99B7-982E07E8528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 strings for binary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writ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append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, starting at 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truncate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+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append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C62A-4A2A-435E-BB3C-77677D4E75F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 that there are different mode string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e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data is written to a file, it normally overwrites what was previously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ile is opened for appending, data written to the file is added at the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473B-9713-4B3F-83B4-12A492197D8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rules apply when a file is opened for both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switch from reading to writing without first calling a file-positioning function unless the reading operation encountered the end of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switch from writing to reading without either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calling a file-positioning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56F6-FED7-462F-A858-7C9121B1132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llows a program to close a file that it’s no longer u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rgum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a file pointer obtained from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the file was closed success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it returns the error co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a macro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7A4D-D507-4195-9D8E-6BADE30FC2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utline of a program that opens a file for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FILE_NAME "example.da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 = fopen(FILE_NAME, "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p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Can't open %s\n", FILE_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CFEF-6E65-4BE9-8D29-401F687E1E5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pics to be cove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s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input and output redirection, and the difference between text files and binary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designed specifically for use with files, including functions that open and close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perform “formatted” input/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read and write unformatted data (characters, lines, and bl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ndom access operations on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write to a string or read from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0240-8F0D-46A4-A7C9-4E4501B963A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not unusual to see the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mbined with the declara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 = fopen(FILE_NAME, "r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 the test again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FILE_NAME, "r")) =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381F-FC0A-403C-95D9-C5A7A233E53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taches a different file to a stream that’s already op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ost common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o associate a file with one of the standard stream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uses a program to begin writing to the f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freopen("foo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or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5F43-740A-4527-AB48-15EB893D023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normal return value is its third argument (a file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can’t open the new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1E23-912D-4010-9989-1B5E22097AC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adds a new twist: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tempts to change the stream’s mode to that specifi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ementations aren’t required to support this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y do, they may place restrictions on which mode changes are permit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4D38-637C-4787-A4C9-12B9F566A5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several ways to supply file names to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ilding file names into the program doesn’t provide much flexi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mpting the user to enter file names can be awk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ing the program obtain file names from the command line is often the best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the command line to supply two file names to a program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names.dat dates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37C1-B69D-4630-B587-75C0DE18AC2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pter 13 showed how to access command-line arguments by def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 function with two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umber of command-line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array of pointers to the argument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03CE-1F13-49C7-88CC-3B2EE748920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0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program name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1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rough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argc-1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the remaining arguments,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argc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xample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3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llowing appearanc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3BD2-D2B1-493D-A79C-655271DB486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6" descr=""/>
          <p:cNvPicPr/>
          <p:nvPr/>
        </p:nvPicPr>
        <p:blipFill>
          <a:blip r:embed="rId1"/>
          <a:stretch/>
        </p:blipFill>
        <p:spPr>
          <a:xfrm>
            <a:off x="1639800" y="3809880"/>
            <a:ext cx="57769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hecking Whether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 File Can Be Opened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determines if a file exists and can be opened for r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r will give the program a file name to 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will then print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user enters the wrong number of arguments on the command line, the program will print the messag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s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3B91-5E35-4493-9720-0ACC573A58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hecks whether a file can be opened for reading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argc != 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usage: canopen filenam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argv[1], "r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s can't be opened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s can be opened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275B-E5D2-4465-946E-336779DA68C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s often need to create temporary files—files that exist only as long as the program is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two function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for working with tempor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82E4-03FD-4CF3-BE1D-61F3A99D983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some I/O functions belong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deal with wide characters rather than ordinary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 or write data are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te input/output fun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ilar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de-character input/output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2E5B-7C9C-40E8-9AD4-F91B66270E8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s a temporary file (ope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+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ode) that will exist until it’s closed or the program 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file pointer that can be used to access the file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temp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empptr = tmpfi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ails to create a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AB7E-B321-4C1E-90A7-3AC4B53B3BC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backs of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n’t know the name of the file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decide later to make the file perma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lternative is to create a temporary file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useful for ensuring that this file doesn’t have the same name as an existing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BFC2-E8E9-4709-9C60-EBE3486A1D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enerates a name for a temporary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s argument is a null poin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the file name in a static variable and returns a pointer to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file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 = tmpnam(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nam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D635-9D8F-4BF7-8909-B0002806D35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pies the file name into a character array provided by the programm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filename[L_tmpnam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(file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nam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is ca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so returns a pointer to the first character of this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_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specifies how long to make a character array that will hold a temporary file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A0B9-5334-4C2A-8E8D-6E22ABF1DFD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_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cro (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specifies the maximum number of temporary file names that can be generat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ails to generate a file nam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6ACA-7F6E-4686-A278-B40B32B8472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erring data to or from a disk drive is a relatively slow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ret to achieving acceptable performanc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fferin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 written to a stream is actually stored in a buffer area in memory; when it’s full (or the stream is closed), the buffer is “flush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streams can be buffered in a similar way: the buffer contains data from the input device; input is read from this buffer instead of the device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925A-0048-43CE-B0D6-1EF6870B438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ffering can result in enormous gains in efficiency, since reading a byte from a buffer or storing a byte in a buffer is very f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takes time to transfer the buffer contents to or from disk, but one large “block move” is much faster than many tiny byte m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erform buffering automatically when it seems advantage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rare occasions, we may need to use the functio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07E1-FB6A-4F5C-9BFC-DD6A306C977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 program can flush a file’s buffer as often as it wi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flushes the buffer for the file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(fp);   /* flushes buffer for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flush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utput stre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(NULL);  /* flushes all buffers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it’s successful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96FE-951A-400A-95B8-6F072AB6F1A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lows us to change the way a stream is buffered and to control the size and location of the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’s third argument specifies the kind of buffering des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F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full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L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line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N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no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ll buffering is the default for streams that aren’t connected to interactive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A14C-70FA-4950-BA37-4B1BEF55148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cond argument (if it’s not a null pointer) is the address of the desired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uffer might have static storage duration, automatic storage duration, or even be allocated dynam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last argument is the number of bytes in the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69CF-922B-4F98-81DD-B5BA8DEB424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eam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, the ter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ans any source of input or any destination for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small programs obtain all their input from one stream (the keyboard) and write all their output to another stream (the scre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rger programs may need additional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s often represent files stored on various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y could just as easily be associated with devices such as network ports and pr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EF29-946D-42E9-BD15-567735A6025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hanges the buffering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full buffering,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f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as the buff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buffer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 buffer, _IOFBF,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called 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opened but before any other operations are performed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A4DB-B723-4537-A45D-8A53CB01333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also legal to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a null pointer as the second argument, which request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 a buffer with the specified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it’s success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a nonzero value i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gument is invalid or the request can’t be hon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CFF1-DB83-4FF7-A349-0FF1048F4E9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older function that assumes default values for the buffering mode and buffer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, 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(stream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(void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NB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it’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(void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FB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SIZ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SI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nsidered to be obso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DD84-CD24-4ADE-9562-66A25DB4CBA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allow a program to perform basic file management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like most other functions in this section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ork with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zero if they succeed and a nonzero value if they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F0BF-4B84-4EB9-B0A7-C975D8DDFE6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eletes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("fo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deletes the file named "foo"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program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create a temporary file, it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delete the file before the program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ffect of removing a file that’s currently open is implementation-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596C-B514-4535-82F2-F817C7D4A50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nges the name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("foo", "ba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names "foo" to "bar"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handy for renaming a temporary file creat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 program should decide to make it perma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file with the new name already exists, the effect is implementation-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fail if asked to rename an open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9219-2BD4-4A48-B749-4B7CACE49DE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ormatted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group of library functions use format strings to control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related functions are able to convert data from numeric form to character form during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related functions are able to convert data from character form to numeric form during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4856-4732-4696-B4B5-BBFBBC3863A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write a variable number of data items to an output stream, using a format string to control the appearance of the outpu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totypes for both functions end with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..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ymbol (an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ips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which indicates a variable number of additional argument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fprintf(FILE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strea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char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format, 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printf(const char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format, 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the number of characters written; a negative return value indicates that an error occurr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6F06-C68E-49BF-BE13-929FABE563F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writ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s to the stream indicated by its first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Total: %d\n", tot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writes to stdou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fp, "Total: %d\n", tot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writes to f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rst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3941-5A81-4EB4-8659-19CEA4ECF33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orks with any out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its most common uses is to write error messag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</a:t>
            </a: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Error: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a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.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a messag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uarantees that it will appear on the screen even if the user redirec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4C98-43F8-4F07-844E-2C7B0BBA4DC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stream is done through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hich has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ertain streams are represented by file pointers with standar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file pointers can be declared as nee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1, *f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58B6-B433-4D42-B451-4E33BC23C68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wo other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write formatted output to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,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re fairly obs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rely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which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arg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they’re discussed along with that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E6B5-8435-44A9-8A49-34FE2732CBA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 a format string containing ordinary characters and/or conversion specif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dinary characters are printed a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 describe how the remaining arguments are to be converted to character form for dis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AFBF-3A7D-4E6A-98E2-8F6E4D19FE8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 consist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, followed by as many as five distinct i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686F-3531-4A79-9066-A31BA0EF47F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6" descr=""/>
          <p:cNvPicPr/>
          <p:nvPr/>
        </p:nvPicPr>
        <p:blipFill>
          <a:blip r:embed="rId1"/>
          <a:stretch/>
        </p:blipFill>
        <p:spPr>
          <a:xfrm>
            <a:off x="2411280" y="2994120"/>
            <a:ext cx="4230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; more than one permitt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a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ft-justify within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s produced by signed conversions always begin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negative numbers produced by signed conversions 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eded by a sp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al numbers begin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nonzero hexadecimal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Floating-point numbers always have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 Trailing zeros aren’t removed from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nted with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s are padded with leading zeros up to the field wid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zero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7AA3-8D2C-4D51-B226-61FA0AB7F4B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imum field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An item that’s too small to occupy the field will be p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default, spaces are added to the left of the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tem that’s too large for the field width will still be displayed in its entir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eld width is either an integer or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resent, the field width is obtained from the next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BF1E-FC98-4190-BCEB-59C3B9C1DB3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The meaning of the precision depends on the convers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imum number of digits (leading zeros ar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ed if the number has fewer digit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digits after the decimal poi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significant digi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number of by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ecision is a period (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followed by an integer or the characte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ff7706"/>
              </a:buClr>
              <a:buFont typeface="Times New Roman"/>
              <a:buChar char="–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If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*</a:t>
            </a:r>
            <a:r>
              <a:rPr b="1" lang="en-US" sz="23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 is present, the precision is obtained from the next argum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05CD-6530-4871-B544-BF24F837E6A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Indicates that the item to be displayed has a type that’s longer or shorter than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rmally refers 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ed to displa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ed to displa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AC20-2782-479C-AD59-DDB8B59C023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h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ll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wint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wchar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effe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C2AD-781E-4136-A162-01A0456702C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l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ll-ell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intmax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z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10DB-4418-4916-B915-07002ED173C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one of the characters in the following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d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decimal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o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u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x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base 8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se 10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or base 16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th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exadecimal digit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lower case;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m in upper cas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decimal form, putt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ecimal point in the correct position. If no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is specified, displays six digits after th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A6DB-56DA-4E2F-8128-014772110FB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three standard stre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fault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streams are ready to use—we don’t declare them, and we don’t open or clo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6742-87D8-406A-8DCE-BA106EA0E07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e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scientific notation. If 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is specified, displays six digits after th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 I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hosen, the exponent is prec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the let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i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hosen, the exponent is prec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g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eith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ooses betwee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hexadecimal scientif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ation using the form [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hhh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±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hex digit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lower case;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them i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per case. The choice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so affects the cas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tter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9B21-4C43-4E6B-9578-9D09FD545E7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play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as an unsigned characte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characters pointed to by the argument. Sto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when the number of bytes specified by th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(if present) is reached or a null character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unter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printable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4000" spc="-1" strike="noStrike">
                <a:solidFill>
                  <a:srgbClr val="b82f25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rresponding argument must point to an object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Stores in this object the number of charac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ten so far by this call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produces 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charac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0986-84BA-412E-9657-888A247B16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99 Changes to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changes to the conversion specification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leng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conversion spec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ility to write infinity and 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rt for wid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ly undefined conversion specifications now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DEB0-9CE2-4439-982C-C94088632D9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flags on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–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•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+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+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 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0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+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+123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 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+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+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 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6F05-839D-42F7-B0F0-3F9BDD7D562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#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lag on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1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•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x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•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X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3C0D-CC46-4E67-8B72-330756D23D1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the minimum field width and precision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      Result of Appl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          Conversion to              Conversi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bogus"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buzzwor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6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bogu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-6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s•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6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bog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buzz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-6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••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•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EBE6-2589-4228-9832-D1077683F0E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how 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displays some numbers 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 and others 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      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%.4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                   Conversion to Numb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56.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+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5.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+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.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.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.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.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-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-0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2DD2-2D24-4C0C-8BC8-55F7C93BE9B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inimum field width and precision are usually embedded in the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t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 where either number would normally go allows us to specify it as an arg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produce the same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6.4d"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.4d", 6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6.*d", 4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.*d", 6, 4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63E1-FE96-4CBA-AF88-4B86756A3F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major advantag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at it allows us to use a macro to specify the width or prec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d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IDTH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idth or precision can even be computed during program exec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d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age_wid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cols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8492-F6EE-4130-8837-44E7909BA4B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is used to print the value of a poi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p", (void *) 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displays value of pt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ointer is likely to be shown as an octal or hexadecimal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F604-F605-4415-9B7C-492ACEEE588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/O functions discussed in previous chapters obtain input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send outpu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perating systems allow these default meanings to be changed via a mechanism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597-DA5A-4DDD-8118-F8BCE0C6712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is used to find out how many characters have been printed so far by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following call,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d%n\n", 123, &amp;le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F695-B360-4C90-8991-B395C38A96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 data items from an input stream, using a format string to indicate the layout of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format string, any number of pointers—each pointing to an object—follow as additional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items are converted (according to conversion specifications in the format string) and stored in these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3B16-F3D3-48CF-B464-5A4625859D8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reads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from the stream indicated by its first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from stdi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(fp, 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from f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rst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8836-49AD-46EE-A9D9-4C3D1C63496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rrors that ca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to return prematur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no more input characters could be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the input characters didn’t match the format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an input failure can also occur because of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ding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E923-C6A2-4738-A81B-C4438B8EC06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return </a:t>
            </a:r>
            <a:r>
              <a:rPr b="1" lang="en-US" sz="2800" spc="-1" strike="noStrike">
                <a:solidFill>
                  <a:srgbClr val="b82f25"/>
                </a:solidFill>
                <a:latin typeface="Times New Roman"/>
                <a:ea typeface="新細明體"/>
              </a:rPr>
              <a:t>the number of data 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ere read and assigned to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input failure occurs before any data items can be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ps that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 are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reads a series of integers one by one, stopping at the first sign of trou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scanf("%d", &amp;i) == 1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BFCD-7C51-4642-8CA2-8272C208E9A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resemble thos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work differ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ormat string represents a pattern tha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ttempts to match as it reads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input doesn’t match the format string, the function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put character that didn’t match is “pushed back” to be read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4838-9277-47EF-AD96-5B933947BBA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 may contain three th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white-spac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75F4-0F1A-495A-81A5-B50F8C7E1AC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s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 resemble those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conversion specifications skip white-space characters at the beginning of an input item (the exception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 never skip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i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hite-space character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E63D-5A69-4820-AF78-934B73EA589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ne or more white-space characters in a format string match zero or more white-space characters in the in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white-space charact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non-white-space character oth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the same character in the in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E240-7831-49C0-B407-973BA708B08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ormat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ISBN %d-%d-%ld-%d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s that the input will consist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tters ISB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sibly some white-space charac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ng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DCB1-3A69-41B3-BD9E-DD9E02E8673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technique for forcing a program to obtain its input from a file instead of from the keyboa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in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technique i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 redir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imi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gt;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data written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now go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ut.d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ile instead of appearing on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D975-7FE4-4B71-A504-360DBEBA647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 consists of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llow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field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Signif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ignment suppress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 input item is read but not assigned to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ms matche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n’t included in the count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BEDF-3AE4-4291-8B10-0024AA70773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field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Limits the number of characters in an input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 skipped at the beginning of a conversion don’t 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Indicates that the object in which the input item will be stored has a type that’s longer or shorter than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able on the next slide lists each length modifier and the type indicated when it is combined with a conversion specif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1074-BACB-47D8-AA31-73785EBB97A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6858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h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wchar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-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intmax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DB8D-0752-48CD-BBAF-CED15487AD0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Must be one of the characters in the following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decimal integer; the correspond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n integer; the corresponding argument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The integer is assumed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be in base 10 unless it begins with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dicat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al) or with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hexadecimal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n octal integer; the corresponding argument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decimal integer; the correspond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FB37-D96C-44E2-A581-A2209C77E5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hexadecimal integer;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unsigne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floating-point number;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, where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maximum fiel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dth, or one character if no field width is specified.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ing argument is assumed to be a pointer to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 array (or a character object, if no field width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d). Doesn’t add a null character at the en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sequence of non-white-space characters,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s a null character at the end.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be a pointer to a character arra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EDB4-F5E6-47EE-8952-9874DCE2FA5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nonempty sequence of characters from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set, then adds a null character at the end.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ing argument is assumed to be a pointer to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 arra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pointer value in the form tha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uld have written it. The corresponding argument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d to be a pointer to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bjec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rresponding argument must point to an object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Stores in this object the number of charac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so far by this call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No input is consum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the return value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affect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the charac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0BDC-274A-4F5D-B07D-10CB57E7EC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eric data items can always begin with a sig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s convert the item to unsigned form, however, so they’re not normally used to read nega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C2A-D3E9-45B8-B46D-1AE869C531C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 is a more complicated (and more flexible) version of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onversion specification using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rm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any set of characte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equence of characters i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the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equence of characters not i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[abc]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tring containing only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abc]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tring that doesn’t conta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597F-5CC2-4141-B8EC-A4AF85CD1B3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 are closely related to the numeric conversion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convert strings (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-297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their equivalent numeric values (–29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, for example, looks for an optio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ign, followed by decimal digits; this is the same form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t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qu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CBB8-561C-4422-BAAB-C230D4127C1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ence betwe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 and numeric conversion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eric Convers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8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6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91FC-C8F4-4269-926F-33426D03ECA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39:05Z</dcterms:created>
  <dc:creator>K. N. King</dc:creator>
  <dc:description/>
  <dc:language>en-US</dc:language>
  <cp:lastModifiedBy>YKCHANG</cp:lastModifiedBy>
  <cp:lastPrinted>1999-11-08T20:52:53Z</cp:lastPrinted>
  <dcterms:modified xsi:type="dcterms:W3CDTF">2013-01-08T15:25:10Z</dcterms:modified>
  <cp:revision>1371</cp:revision>
  <dc:subject/>
  <dc:title>No Slide Title</dc:title>
</cp:coreProperties>
</file>