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  <p:sldId id="387" r:id="rId145"/>
    <p:sldId id="388" r:id="rId146"/>
    <p:sldId id="389" r:id="rId147"/>
    <p:sldId id="390" r:id="rId148"/>
    <p:sldId id="391" r:id="rId149"/>
    <p:sldId id="392" r:id="rId150"/>
    <p:sldId id="393" r:id="rId151"/>
    <p:sldId id="394" r:id="rId152"/>
    <p:sldId id="395" r:id="rId153"/>
    <p:sldId id="396" r:id="rId154"/>
    <p:sldId id="397" r:id="rId155"/>
    <p:sldId id="398" r:id="rId156"/>
    <p:sldId id="399" r:id="rId157"/>
    <p:sldId id="400" r:id="rId158"/>
    <p:sldId id="401" r:id="rId159"/>
    <p:sldId id="402" r:id="rId160"/>
    <p:sldId id="403" r:id="rId161"/>
    <p:sldId id="404" r:id="rId162"/>
    <p:sldId id="405" r:id="rId163"/>
    <p:sldId id="406" r:id="rId164"/>
    <p:sldId id="407" r:id="rId165"/>
    <p:sldId id="408" r:id="rId166"/>
    <p:sldId id="409" r:id="rId167"/>
    <p:sldId id="410" r:id="rId168"/>
    <p:sldId id="411" r:id="rId169"/>
    <p:sldId id="412" r:id="rId170"/>
    <p:sldId id="413" r:id="rId171"/>
    <p:sldId id="414" r:id="rId172"/>
    <p:sldId id="415" r:id="rId173"/>
  </p:sldIdLst>
  <p:sldSz cx="9144000" cy="6858000"/>
  <p:notesSz cx="6994525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slide" Target="slides/slide132.xml"/><Relationship Id="rId146" Type="http://schemas.openxmlformats.org/officeDocument/2006/relationships/slide" Target="slides/slide133.xml"/><Relationship Id="rId147" Type="http://schemas.openxmlformats.org/officeDocument/2006/relationships/slide" Target="slides/slide134.xml"/><Relationship Id="rId148" Type="http://schemas.openxmlformats.org/officeDocument/2006/relationships/slide" Target="slides/slide135.xml"/><Relationship Id="rId149" Type="http://schemas.openxmlformats.org/officeDocument/2006/relationships/slide" Target="slides/slide136.xml"/><Relationship Id="rId150" Type="http://schemas.openxmlformats.org/officeDocument/2006/relationships/slide" Target="slides/slide137.xml"/><Relationship Id="rId151" Type="http://schemas.openxmlformats.org/officeDocument/2006/relationships/slide" Target="slides/slide138.xml"/><Relationship Id="rId152" Type="http://schemas.openxmlformats.org/officeDocument/2006/relationships/slide" Target="slides/slide139.xml"/><Relationship Id="rId153" Type="http://schemas.openxmlformats.org/officeDocument/2006/relationships/slide" Target="slides/slide140.xml"/><Relationship Id="rId154" Type="http://schemas.openxmlformats.org/officeDocument/2006/relationships/slide" Target="slides/slide141.xml"/><Relationship Id="rId155" Type="http://schemas.openxmlformats.org/officeDocument/2006/relationships/slide" Target="slides/slide142.xml"/><Relationship Id="rId156" Type="http://schemas.openxmlformats.org/officeDocument/2006/relationships/slide" Target="slides/slide143.xml"/><Relationship Id="rId157" Type="http://schemas.openxmlformats.org/officeDocument/2006/relationships/slide" Target="slides/slide144.xml"/><Relationship Id="rId158" Type="http://schemas.openxmlformats.org/officeDocument/2006/relationships/slide" Target="slides/slide145.xml"/><Relationship Id="rId159" Type="http://schemas.openxmlformats.org/officeDocument/2006/relationships/slide" Target="slides/slide146.xml"/><Relationship Id="rId160" Type="http://schemas.openxmlformats.org/officeDocument/2006/relationships/slide" Target="slides/slide147.xml"/><Relationship Id="rId161" Type="http://schemas.openxmlformats.org/officeDocument/2006/relationships/slide" Target="slides/slide148.xml"/><Relationship Id="rId162" Type="http://schemas.openxmlformats.org/officeDocument/2006/relationships/slide" Target="slides/slide149.xml"/><Relationship Id="rId163" Type="http://schemas.openxmlformats.org/officeDocument/2006/relationships/slide" Target="slides/slide150.xml"/><Relationship Id="rId164" Type="http://schemas.openxmlformats.org/officeDocument/2006/relationships/slide" Target="slides/slide151.xml"/><Relationship Id="rId165" Type="http://schemas.openxmlformats.org/officeDocument/2006/relationships/slide" Target="slides/slide152.xml"/><Relationship Id="rId166" Type="http://schemas.openxmlformats.org/officeDocument/2006/relationships/slide" Target="slides/slide153.xml"/><Relationship Id="rId167" Type="http://schemas.openxmlformats.org/officeDocument/2006/relationships/slide" Target="slides/slide154.xml"/><Relationship Id="rId168" Type="http://schemas.openxmlformats.org/officeDocument/2006/relationships/slide" Target="slides/slide155.xml"/><Relationship Id="rId169" Type="http://schemas.openxmlformats.org/officeDocument/2006/relationships/slide" Target="slides/slide156.xml"/><Relationship Id="rId170" Type="http://schemas.openxmlformats.org/officeDocument/2006/relationships/slide" Target="slides/slide157.xml"/><Relationship Id="rId171" Type="http://schemas.openxmlformats.org/officeDocument/2006/relationships/slide" Target="slides/slide158.xml"/><Relationship Id="rId172" Type="http://schemas.openxmlformats.org/officeDocument/2006/relationships/slide" Target="slides/slide159.xml"/><Relationship Id="rId173" Type="http://schemas.openxmlformats.org/officeDocument/2006/relationships/slide" Target="slides/slide160.xml"/><Relationship Id="rId1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5F5E5-28CD-41A4-A979-55E36BDEE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6322-B68E-4EA6-92C8-87E12112928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2F1FA-069A-4DFC-A8BF-48C677F1799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ADFB8-48B7-4D5F-8182-0B473BDA186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C0DA6-2C85-412D-9D97-79A3993FC9E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38919-A62B-481A-8968-2D3031E2D02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03E3B-B27B-4201-8183-84ABCA72D29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09595-90AF-408B-BB22-3A4F323F17A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F8B04-0219-4764-9645-81458B301BD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334ED-3B3B-48AD-970E-1D30C7C66A0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AF2B6-14C0-47D4-B65A-7E155E89625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086E6-B150-468F-B82B-F4C1E8246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D87B-595C-4CF0-B849-24C11058866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E4AD0-FA14-4F26-AD11-636621752AC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0EE93-466C-4DE3-B496-DB2E8DB580C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C673C3-B945-4064-8EBD-E52F4EE6293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904FB-2CA2-4C8F-BFA8-89FE3DABEB3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5E95B3-6729-48CE-83EF-F3F4CF645CF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70EFA-E737-4CD0-BEF9-A4798015FA5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5C781E-4D6F-400C-A938-B9C1B6324F7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FAA538-08B8-4991-9D41-CC85F585C94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165A5-FFF5-4BA5-A26F-31CA9B77589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BE3298-BA66-48F0-8971-C273DAEBD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72C7A-533E-42FA-B4EF-554BC536111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D28152-D1A3-46F5-98B2-FAF68A37554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0BD0FB-05C2-4C85-90C6-B3923EF6660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F38EA0-9E67-4A09-8F3E-6D9825314A0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0B2F72-61E1-4557-9705-B74F8EBF37D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70C3C0-7328-49D4-B3A7-20C9D9BD3AA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7844CD-FAB7-4865-A93C-F515EE3CFFF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B7BD9F-6C29-47C4-B897-8046355A429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4D3685-2ADA-4B70-9138-E8CDAB20F5E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7D0E0E-3A68-42FC-A06D-DCB1523B6FE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BD70FC-DAE3-42A9-917A-ADDFC5FF7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49FC9-F96A-4F7B-ADDA-4E4058C2F91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987959-85D9-4BDC-B1F6-DD3A79C30FE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AEAA7B-D451-4D73-A4C6-D6810A9D270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D63AC2-AA9E-49F7-B84D-E391700F162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84B98-ED90-463C-A753-838E603E4C1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A52DA-39DA-4EA8-90A1-76A99987031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6F147-AA21-4A15-9FA5-CE271ED1B75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E7A88-74A7-4504-941C-391BEDFA2E2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7BC64-4FC5-45EA-AF7A-A38DC587B09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6EC44-0C9C-4EBE-A669-76382B0D307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66BDB-6721-4370-A3BB-619F6F2460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06A7E-EC9C-495E-B97F-1DDF0F9601D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39FA6-91FE-4BB1-9CBA-82BBE833F6E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4755A-058E-41C6-972C-9596FF1D465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4AEAF-80AB-411A-9E13-3CCA88D57B2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89105-EDBA-40A1-8130-04F86926CA1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1C6FE-7E4A-4793-8131-87D40895D0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6451D-9AA0-4F20-AD2B-B7519F1E1D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1A13E-EF2B-4CEC-8DF0-2F123C7099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AB4D4-95B5-4D02-ACBC-13B6450CAC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3C561-31CC-4927-8708-7B2F90B130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79E7C-B94B-4041-ACC7-68C49E20EC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00958-D44A-4707-AF35-BAD97F200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A705E-D5CD-4FE0-A968-642AA2CBF5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D8D43-FF4A-45CE-BB82-71279CD69B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C39EB-2EE6-46F8-9E11-66A313BB2A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4B2BF-D65A-4A9F-B72D-98D30A225D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97DD2-BF3D-45F9-AEFC-0491A58430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298C-2D97-4BF3-A7CC-CB5D578170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71ED-2562-49F9-9CE6-623A69BDA4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055C-AD29-4602-9DDB-E8E6D659C1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0037-E356-4A08-94E8-3897FEE22A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AD50-F42C-467B-87AB-1F7008363F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AD2E-0DFF-44B8-A9FB-8A15B25802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FB3F-954D-401B-B3D1-DDE2201E20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D9FF-5DE8-4D47-9994-138BB82457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AD20-3719-4115-8C5F-B92C1B3862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EF48-5DB5-4955-A1D0-AD7E19BE44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C3AF-CC3A-429D-98EA-7D2DA48F77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CBA3-70FC-4E04-9152-2577C5C7B4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9CBB-B04B-41A6-9E35-C1CD3B7B4C0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9C391-ED93-46B6-8A8D-0DCDC295D1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77373-98FE-4DC0-8CEA-00A3DFB2C2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4F1E8-6B67-440D-8401-2BC7415DD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9B68D-422D-4601-A0DF-FC3606FFE9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0ABA9-64AE-4050-8FD9-74056B8160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E3EF0-33CC-41B1-8B5A-5D611ECEA9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68486-C0DE-4422-8F1D-8EFCD2D744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B5CBE-CAAE-4B16-8213-CF8DA4E5EC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FB279-0FA3-4521-8385-327399B15A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E35B2-1FEE-4A4C-AE19-8FE67B54E4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AA2B2-1252-44D2-A262-64CE96B32F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346EE-76CE-48C9-AE30-493F6A2475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A2B87-B017-4431-A6CF-7CA334911BB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557EBB-5D75-4AF9-B170-1C3DF12E4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A2287-DEA5-4F99-93CD-E5A2AF1BAD5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5665CC-AAFE-43F7-AE69-21C38351750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C94A7-27E4-400A-BFE0-AB009F50021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E32702-E019-4F1D-A27D-B0AE188BCE1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594F9-A6A8-483A-9591-DCA4B130BC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9C5EB-C9A0-4DD9-BD5C-ACE9731F2BA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3191A-1655-44BD-A1FA-C5AA4A149BF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C60CD6-F68D-4F22-84EC-E37D73DE620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74511B-EE04-444E-B131-A7AC166BA5E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D7FB8A-8D3F-4F05-B327-598BE480E0D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D0989A-81D3-4EFD-A986-A9987C5ED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D5FA0-0AF3-4757-B70B-4A5D7E3A528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269B61-0C94-4E76-BD2B-388FBE10B08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3841B-82A0-4723-898A-35C58609378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A0F85-DA02-46A0-9857-93667CF0C5E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1A18E-52D9-46EE-93D8-6198AAE43F5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4EA79-2F7A-4332-80B8-B05B0F199CC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7B80B-4307-476B-B14E-1EB0186CC91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1E49-1C3A-4E88-A3E1-E02F7088F6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37AAF-BE1E-4370-B159-3ED88F39635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F9DE-A28F-40CA-AA9B-0FCDB91B562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A5CF2-177A-4B77-AFE7-217A6E22E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5A3A4-5CC4-4278-9A16-3E234C853B7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E0793-3AAE-4604-8E3E-C911B8251E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2774A-D0CB-4DC4-8019-ADBCAF7A319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AC446-A04D-4BD0-8BDF-E20764DDE2E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8C0E5-8BF2-436E-8166-9CF3D82A102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2A03D-649C-4AA1-AAC0-05FF571E595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499D2-C404-4ABA-AA14-F2B5C0FAB38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3C511A-1BC7-44FA-9988-9AEB0295B8F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E239D-AAF4-4D72-8AAE-592181B9E70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222A8-9AA8-4961-AF6B-8E95AC5155E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A5D97-A709-4430-9E7A-D911C769D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91C4-23AC-465C-B1D9-49B26F54AD3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CCB5C6-DEAC-4439-BAE9-3E13BD64B49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C2BF94-0B3C-4C30-BCBC-3C8928F4D76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5EE775-ED48-44F6-94FE-D4AB8AC3BA1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81A88-6D55-42BD-A12F-9F7DEE58B24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CE65A-82C3-451D-8ACE-1313D6118FE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218A1E-69C8-4BCF-ADE0-02101548624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F5BFFA-BC6B-4026-965A-A024116EC08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0FB2E2-27DD-47A9-9116-83882DD1A64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5A5CEF-4160-4071-B452-F2169ECA398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A5112D-B38C-4449-949D-E8BCD7E7C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EE3F-C461-439D-9538-DAF0408EE87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5B0648-CA07-42A9-98FF-4EDF3F59969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56C1AD-0908-4730-AFF3-36C3E5A967F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BBD04A-CF1B-4782-B35D-0CF9CFBBDAB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38A7BA-B50A-4413-8A28-F369BBD55A0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39EB74-94DD-4DC3-8D95-FD829C6EF8C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FE73E2-EEBD-42FE-9809-E25C1ADBFB9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E5DA2A-BA6C-432B-8586-A2A59EC8B43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9FB1C-103D-4BB1-9482-9370B1059DF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EB54-CE7F-48D7-A314-6C10FAD2F54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9E91E-2E49-457C-A522-839286325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88B1-8732-4927-9B15-03C23DA8272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216D-B912-45D4-A2FD-251D78F4FDC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105C-5EC4-48E1-9D70-8702689CBD0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C325-6786-4617-B9F7-420A5372CBE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7B87-9E40-4A9D-96F1-D455129543F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6123-43E2-4745-9697-9808537B0B7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0DEC-03AD-4925-9365-E972346E4F8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8891-02DB-4630-9EF4-64AE6DD653F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EBB6-DBBD-49A1-BB4C-6EAD913BEDD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ECC6-05FB-4406-B6E7-2FE257838D3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29AE-57F3-46A4-B281-C2559AFD912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0230-D0CD-44B2-B96A-366C280F737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B229-BEF7-4AA2-B9B0-013420431EC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hapter 22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Input/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redirection and output redirection can be comb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lt;in.dat &gt;out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s don’t have to be adjacent to file names, and the order in which the redirected files are listed doesn’t mat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lt; in.dat &gt; out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gt;out.dat &lt;in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6A51-EC04-4611-BFD8-D19716BA08B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99 Changes to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changes to the conversion specifications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length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conversion spec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bility to read infinity and 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rt for wid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DFD8-A86D-4C78-86FC-1C2F9D9AD10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xt three tables contain sample call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s printed in strikeout are consumed by the 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C67A-6EB9-482F-AC72-5E34B309AE2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traight Connector 6"/>
          <p:cNvSpPr/>
          <p:nvPr/>
        </p:nvSpPr>
        <p:spPr>
          <a:xfrm>
            <a:off x="4165560" y="2741760"/>
            <a:ext cx="12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that combine conversion specifications, white-space characters, and non-white-space charac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11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,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 ,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, 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EFA5-2C26-43A0-B97D-7A29F84827D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Straight Connector 12"/>
          <p:cNvSpPr/>
          <p:nvPr/>
        </p:nvSpPr>
        <p:spPr>
          <a:xfrm>
            <a:off x="5372280" y="4646520"/>
            <a:ext cx="10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traight Connector 10"/>
          <p:cNvSpPr/>
          <p:nvPr/>
        </p:nvSpPr>
        <p:spPr>
          <a:xfrm>
            <a:off x="5384880" y="5537160"/>
            <a:ext cx="291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Straight Connector 14"/>
          <p:cNvSpPr/>
          <p:nvPr/>
        </p:nvSpPr>
        <p:spPr>
          <a:xfrm>
            <a:off x="5359320" y="2857680"/>
            <a:ext cx="438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Straight Connector 10"/>
          <p:cNvSpPr/>
          <p:nvPr/>
        </p:nvSpPr>
        <p:spPr>
          <a:xfrm>
            <a:off x="5370480" y="3746520"/>
            <a:ext cx="291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assignment suppression and specifying a field wid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Inpu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*d%d", &amp;i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*s%s", str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My•Fair•Lady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"Fair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1d%2d%3d"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45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 &amp;j, &amp;k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2d%2s%2d"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456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 str, &amp;j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"34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B3D1-9D93-43EB-A44D-441AE1BF07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traight Connector 6"/>
          <p:cNvSpPr/>
          <p:nvPr/>
        </p:nvSpPr>
        <p:spPr>
          <a:xfrm>
            <a:off x="4660920" y="2857680"/>
            <a:ext cx="731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traight Connector 8"/>
          <p:cNvSpPr/>
          <p:nvPr/>
        </p:nvSpPr>
        <p:spPr>
          <a:xfrm>
            <a:off x="4635360" y="3478320"/>
            <a:ext cx="1051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traight Connector 12"/>
          <p:cNvSpPr/>
          <p:nvPr/>
        </p:nvSpPr>
        <p:spPr>
          <a:xfrm>
            <a:off x="4660920" y="4064040"/>
            <a:ext cx="731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traight Connector 14"/>
          <p:cNvSpPr/>
          <p:nvPr/>
        </p:nvSpPr>
        <p:spPr>
          <a:xfrm>
            <a:off x="4660920" y="5245200"/>
            <a:ext cx="904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that illustrat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Input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i%i%i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j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k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012•0x12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[0123456789]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abc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123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[0123456789]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bc123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[^0123456789]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bc123¤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c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*d%d%n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j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0•20•30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9A0E-0C6D-490B-ADBF-BDFFD389041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Straight Connector 6"/>
          <p:cNvSpPr/>
          <p:nvPr/>
        </p:nvSpPr>
        <p:spPr>
          <a:xfrm>
            <a:off x="5334120" y="2502000"/>
            <a:ext cx="1536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traight Connector 8"/>
          <p:cNvSpPr/>
          <p:nvPr/>
        </p:nvSpPr>
        <p:spPr>
          <a:xfrm>
            <a:off x="5334120" y="3706920"/>
            <a:ext cx="430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Straight Connector 8"/>
          <p:cNvSpPr/>
          <p:nvPr/>
        </p:nvSpPr>
        <p:spPr>
          <a:xfrm>
            <a:off x="5335560" y="4952880"/>
            <a:ext cx="430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Straight Connector 8"/>
          <p:cNvSpPr/>
          <p:nvPr/>
        </p:nvSpPr>
        <p:spPr>
          <a:xfrm>
            <a:off x="5348160" y="55627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ask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o read and st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ata items, we expect its return value to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return value is less th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mething went wr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d-of-fi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function encountered end-of-file before matching the format string comple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 err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function was unable to read characters from the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failu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data item was in the wrong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17E2-4603-485E-B3DD-A348E2D1D6C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ry stream has two indicators associated with it: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rror indic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d-of-file indicat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indicators are cleared when the stream is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countering end-of-file sets the end-of-file indicator, and a read error sets the error indic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error indicator is also set when a write error occurs on an output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82f2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Times New Roman"/>
                <a:ea typeface="新細明體"/>
              </a:rPr>
              <a:t>A matching failure doesn’t change either indic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5449-7A2A-4C55-A38B-28E00B75C3B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the error or end-of-file indicator is set, it remains in that state until it’s explicitly cleared, perhaps by a c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lears both the end-of-file and error indic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(fp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nd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rr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dicator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needed often, since some of the other library functions clear one or both indicators as a side eff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0698-EDFB-412E-9B07-BCF0C728315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can be used to test a stream’s indicators to determine why a prior operation on the stream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 if the end-of-file indicator is set for the stream associat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 if the error indicator is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9310-E737-4281-8133-BEFFFFDAD1B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smaller-than-expected valu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used to determine the rea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, the end of the input file has been rea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, a read error occurred during in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either returns a nonzero value, a matching failure must have occur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eturn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s how many data items were read before the problem occur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52FC-6B74-4B34-8D2C-974D06A4ED4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problem with output redirection is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ry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ten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ut into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error messag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uarantees that they will appear on the screen even 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redir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10D4-B584-4451-9423-4D48459B549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an example that shows how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ight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earches a file for a line that begins with an inte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find_int("fo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value of the integer that it finds or an error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can’t be o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line begins with an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64F8-24C3-49A6-8926-2DE7F79BD58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find_int(const char *file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 = fopen(filename, "r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p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1;               /* can't open fil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fscanf(fp, "%d", &amp;n) != 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error(fp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2;             /* read erro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eof(fp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3;             /* integer not foun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(fp, "%*[^\n]");   /* skips rest of lin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999A-4FF7-4D48-9AD0-8485ACF8775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haracter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xt group of library functions can read and write single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work equally well with text streams and binary stre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s treat characters as valu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no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reason is that the input functions indicate an end-of-file (or error) condition by retur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is a negative integer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5D8F-CC03-43F3-B032-EF421B846E3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s one character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e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(ch);    /* writes ch to stdout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 a character to an arbitrary stre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(ch, fp);  /* writes ch to fp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(ch, fp);   /* writes ch to fp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ually implemented as a macro (as well as a function), wh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implemented only as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6477-0077-4B64-AE6D-8688803C449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self is usually a macro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putchar(c) putc((c), stdout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 standard allows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cro to evaluate the stream argument more than once, which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permitted to d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mers usually prefer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gives a faster progr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write error occurs, all three functions set the error indicator for the stream and retur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they return the character that was writt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DF5C-8624-4709-8D22-3028201B069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a character from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 = getchar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 a character from an arbitrary strea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 = fgetc(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 = getc(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three functions treat the character as a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(which is then converted to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 before it’s returned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a result, they never return a negative value other tha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EB62-810A-48F5-BAC8-5E8B5030ABF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ually implemented as a macro (as well as a function), wh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implemented only as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normally a macro as we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getchar() getc(std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mers usually pref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v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4212-9F3E-4767-BD6E-221B526F090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behave the same if a problem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end-of-file, they set the stream’s end-of-file indicator and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read error occurs, they set the stream’s error indicator and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differentiate between the two situations, we can call ei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C305-EAB2-457F-8F5F-A5BAC654B43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the most common us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o read characters from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ypic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oop for that purp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(ch = getc(fp)) != EOF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 store the return value in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, no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sting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 again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give the wrong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89F4-BABD-4CCF-9266-B248033EFC5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“pushes back” a character read from a stream and clears the stream’s end-of-file indic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reads a series of digits, stopping at the first nondig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isdigit(ch = getc(fp))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(ch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pushes back last character rea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FADE-4F60-4374-A6A1-01152FBAC8C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upports two kinds of files: text and bi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ytes in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present characters, allowing humans to examine or edit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ource code for a C program is stored in a tex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inary fil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don’t necessarily represent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oups of bytes might represent other types of data, such as integers and floating-point number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ecutable C program is stored in a binary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5602-6847-4568-8259-9A2AC467F59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umber of characters that can be pushed back by consecutive call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es; only the first call is guaranteed to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a file-positioning functi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causes the pushed-back characters to be l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character it was asked to push 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n attempt is made to push back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to push back more characters than allo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2E8C-4B60-43F4-9889-EA7393EF1D0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Copy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makes a copy of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ames of the original file and the new file will be specified on the command line when the program is exec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copy the f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1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 f1.c f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issue an error message if there aren’t exactly two file names on the command line or if either file can’t be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F19E-F2A2-4F13-9B9C-49D21D150E3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Copy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the file modes enabl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copy both text and binary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us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r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w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, the program wouldn’t necessarily be able to copy binary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6019-4DDD-49B1-B2ED-F5BAD2DB0FB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opies a fil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source_fp, *dest_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argc != 3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usage: fcopy source dest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DCD7-702C-41B8-872A-C6C9D2B17A5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source_fp = fopen(argv[1], "rb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Can't open %s\n", 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dest_fp = fopen(argv[2], "wb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Can't open %s\n", argv[2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source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(ch = getc(source_fp)) != EO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(ch, dest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source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dest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2EAC-9214-48EE-8617-2662630922E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Line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brary functions in the next group are able to read and write l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are used mostly with text streams, although it’s legal to use them with binary stream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B489-2AE3-431E-B18E-566B5973536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writes a string of character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("Hi, there!");  /* writes to stdout 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it writes the characters in the string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ways adds a new-line character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98F9-87DC-4D50-A1B0-F311CEF1B46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ore general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s second argument indicates the stream to which the output should be writ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s("Hi,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re!",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p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write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li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doesn’t write a new-line character unless one is present in the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 write error occurs; otherwise, they return a nonnegativ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AC4F-E0EA-4F98-A3DD-E80D9289E1E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reads a line of input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(str); /* reads a line from stdi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characters one by one, storing them in the array 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until it reads a new-line character (which it discar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ore general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n read from any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lso safer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ince it limits the number of characters that it will s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DC37-1FD7-4BA2-84BF-200FA4AA201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reads a line into a character array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(str, sizeof(str)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ad characters until it reaches the first new-line character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st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– 1 characters have been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reads the new-line charact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it along with the other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B677-DD47-46BE-BB7A-46ECA61E24D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s have two characteristics that binary files don’t poss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s are divided into lin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line in a text file normally ends with one or two special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ndows: carriage-return character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'\x0d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followed by line-feed character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'\x0a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IX and newer versions of Mac OS: line-feed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lder versions of Mac OS: carriage-return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B5E1-53C2-470F-AAEF-4379CA8CE72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 a null pointer if a read error occurs or they reach the end of the input stream before storing any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both return their first argument, which points to the array in which the input was sto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store a null character at the end of the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0562-FF74-4A88-828A-904B4E5DD76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be used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most si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afe to use only when the string being rea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uarante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fit into the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re’s no guarantee (and there usually isn’t), it’s much safer to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ad from the standard input stream if pass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its third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(str, sizeof(str), std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8F3B-0447-401A-87D0-DF215D5C636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allow a program to read and write large blocks of data in a single st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used primarily with binary streams, although—with care—it’s possible to use them with text stream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D1FD-E256-4E00-ABF8-529B7B574C2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designed to copy an array from memory to a stre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s in a call of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ress of arra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ze of each array element (in byte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elements to wri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in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writes the entire contents of the array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(a, sizeof(a[0]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a) / sizeof(a[0]), 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DA8F-1E86-419D-B95D-01CEE25AB44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number of elements actually wr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number will be less than the third argument if a write error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54C0-0FBC-43A8-AD6A-6B07AFAB5B6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ad the elements of an array from a stre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reads the contents of a file into the array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fread(a, sizeof(a[0]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a) / sizeof(a[0]), 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 indicates the actual number of elements rea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number should equal the third argument unless the end of the input file was reached or a read error occurr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4D72-83DD-4981-9D33-34B6BBEA782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nvenient for a program that needs to store data in a file before termin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ter, the program (or another program) can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read the data back into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ata doesn’t need to be in array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writes a structure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(&amp;s, sizeof(s), 1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4872-E31D-4A21-A554-D968659BF96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ry stream has an associat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si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file is opened, the file position is set at the beginning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“append” mode, the initial file position may be at the beginning or end, depending on the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read or write operation is performed, the file position advances automatically, providing sequential access to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DCA8-4D05-4BD2-9C99-B2B88C6B515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sequential access is fine for many applications, some programs need the ability to jump around within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file contains a series of records, we might want to jump directly to a particular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five functions that allow a program to determine the current file position or to chang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4D03-77C9-443F-9E16-FB818B820BA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changes the file position associated with the first argument (a file poin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hird argument is one of three mac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ginning of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rrent file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d of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econd argument, which has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is a (possibly negative) byte 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AC67-3D01-4B28-AE98-06DBE4F7C5A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s may contain a special “end-of-file” mark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Windows, the marker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'\x1a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Ctrl-Z), but it is not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other operating systems, including UNIX, have no special end-of-file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a binary file, there are no end-of-line or end-of-file markers; all bytes are treated eq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6EDF-245E-4875-A93D-D95B03D8400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to the beginning of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0L, SEEK_S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to the end of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0L, SEEK_EN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back 10 by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-10L, SEEK_CU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n error occurs (the requested position doesn’t exist, for example)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B452-970B-4BE0-AA6A-3F5F7D77D9D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le-positioning functions are best used with binary stre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doesn’t prohibit programs from using them with text streams, but certain restrictions app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text stream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used only to move to the beginning or end of a text stream or to return to a place that was visited previous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binary stream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required to support calls in which the third argumen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1502-68DF-4140-B3F5-94A41B69D24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returns the current file position as a long inte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value return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be saved and later supplied to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 file_p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pos = ftell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saves current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file_pos, SEEK_S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turns to old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2128-C6E0-4E84-B795-37ABD079CA1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binary stream, 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current file position as a byte count, where zero represents the beginning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text strea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necessarily a byte 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a result, it’s best not to perform arithmetic on values return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C3AB-4D64-4FD7-B4D3-52CE9F77D6D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sets the file position at the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nearly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0L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SE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ifference?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return a value but does clear the error indicator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643D-DB5B-4ED7-8A77-B19C47518D8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limited to files whose positions can be stored in a long inte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working with very large files, C provides two additional function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can handle large files because they use valu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os_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represent file pos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os_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isn’t necessarily an integer; it could be a structure, for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F962-C0A0-4E71-9F65-BFA88D59D08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(f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file_po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the file position associat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(f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file_po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ets the file position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the value sto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ails, it stores an error cod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rr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zero when they succeed and a nonzero value when they f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77F8-F7AB-4A8F-83C8-2702E803021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save a file position and return to it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os_t file_p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(fp, &amp;file_p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saves current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(fp, &amp;file_p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turns to old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2CAB-9692-456D-B02F-F39FFF17BC9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odifying a File of Part Record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ons perform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clear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s a binary file containing part 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s the structures into an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n_h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of each structur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s the structures back to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gram opens the fil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+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ode, allowing both reading and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FA5C-6BC8-40D1-BC83-5FC45500AF4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clear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Modifies a file of part records by setting the 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on hand to zero for all record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NAME_LEN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MAX_PARTS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name[NAME_LEN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on_ha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 inventory[MAX_PAR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_par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2F06-781E-4788-AEFE-5016F09D1AB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data is written to a file, it can be stored in text form or in binary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way to store the number 32767 in a file would be to write it in text form as the characters 3, 2, 7, 6, and 7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8B66-7532-490A-ACDD-FCFD2A1A04D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6" descr=""/>
          <p:cNvPicPr/>
          <p:nvPr/>
        </p:nvPicPr>
        <p:blipFill>
          <a:blip r:embed="rId1"/>
          <a:stretch/>
        </p:blipFill>
        <p:spPr>
          <a:xfrm>
            <a:off x="1190520" y="3924360"/>
            <a:ext cx="66963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fp = fopen("inventory.dat", "rb+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Can't open inventory fil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parts = fread(inventory, sizeof(struct part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X_PARTS, 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um_parts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[i].on_hand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(inventory, sizeof(struct part), num_parts, 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83F3-F535-4A35-B30D-1DC2D4900DD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ring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s described in this section can read and write data using a string as though it were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 characters into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characters from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ACDD-0591-45F5-8532-84FF7269E27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ring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ee similar function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also belong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rely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a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which is decla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arg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 they are discussed in Chapter 2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92C0-983D-481C-BF99-0573110AEEA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writes output into a character array (pointed to by its first argument) instead of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that writ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9/20/2010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(date, "%d/%d/%d", 9, 20, 20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dds a null character at the end of the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returns the number of characters stored (not counting the null charac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837A-5FEA-487F-93E6-C7CF780E868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used to format data, with the result saved in a string until it’s time to produc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lso convenient for converting numbers to character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37D9-C352-47DD-AAA1-5D5328306D7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(new in C99) is the same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except for an additional second parameter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more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– 1 characters will be written to the string, not counting the terminating null character, which is always written unle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(name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3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%s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%s"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Einstein"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Albert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Einstein, Al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written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FC5A-629A-412A-A5B1-A334229FFFD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number of characters that would have been written (not including the null character) had there been no length restri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n encoding error occur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egativ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ee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d room to write all the requested characters, we can test whether its return value was nonnegative and less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28AB-0AEE-4E6A-BC25-61235028B16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similar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from a string (pointed to by its first argument) instead of reading from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second argument is a format string identical to that us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B589-F652-493A-B7D0-7B9E0668CEE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handy for extracting data from a string that was read by another input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obtain a line of input, then passes the lin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 further proces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(str, sizeof(str), std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ads a line of inpu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(str, "%d%d", &amp;i, &amp;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extracts two integer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2352-DB72-4018-90A9-6379DAB15E0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advantage of using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at we can examine an input line as many times as need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makes it easier to recognize alternate input forms and to recover from erro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 the problem of reading a date that’s written either in the form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ea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ea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(sscanf(str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"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/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/%d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year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=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3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Month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\n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(sscanf(str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"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-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-%d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year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=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3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Month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\n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Dat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no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oper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m\n");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633B-2538-4FD2-9571-E8A8DD9D49D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ther option is to store the number in binary, which would take as few as two by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oring numbers in binary can often save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B0A1-E7AD-47AC-8DD6-CDFAE0339F4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4" descr=""/>
          <p:cNvPicPr/>
          <p:nvPr/>
        </p:nvPicPr>
        <p:blipFill>
          <a:blip r:embed="rId1"/>
          <a:stretch/>
        </p:blipFill>
        <p:spPr>
          <a:xfrm>
            <a:off x="3187800" y="2552760"/>
            <a:ext cx="27032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k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number of data items successfully read and st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it reaches the end of the string (marked by a null character) before finding the first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3AA0-DF33-46EC-816D-5534BC1FF68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s that read from a file or write to a file must take into account whether it’s text or bi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program that displays the contents of a file on the screen will probably assume it’s a tex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ile-copying program, on the other hand, can’t assume that the file to be copied is a tex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does, binary files containing an end-of-file character won’t be copied comple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we can’t say for sure whether a file is text or binary, it’s safer to assume that it’s bi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22FF-EDCA-4E74-8F3A-6FEFBA7889B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plicity is one of the attractions of input and output 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fortunately, redirection is too limited for many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program relies on redirection, it has no control over its files; it doesn’t even know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direction doesn’t help if the program needs to read from two files or write to two files at the sam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redirection isn’t enough, we’ll use the file operation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68CB-A592-4D2D-8446-23900D0704F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ing a file for use as a stream requires a c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open(const char *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filenam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char *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mod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name of the file to be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argument may include information about the file’s location, such as a drive specifier or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“mode string” that specifies what operations we intend to perform on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876E-A5FF-4A46-9CF6-855E3ECBAB4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trodu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’s input/output library is the biggest and most important part of the standard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 is the primary repository of input/output functions, includ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chapter provides more information about these six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also introduces many new functions, most of which deal with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EF8E-BEB1-47B0-B114-81A92FD878E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ppears twice in the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is a C99 keyword, indicate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point to strings that don’t share memory lo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89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conta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ut is otherwise iden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no effect on the behavior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 it can usually be ign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6E66-F715-4EE7-9C64-53B354E3CAB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Windows, be careful when the file name in a call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cludes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("c:\project\test1.dat", "r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ll fail, becaus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reated as a character escap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way to avoid the problem is to us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("c:\\project\\test1.dat", "r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alternative is to use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 instead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("c:/project/test1.dat", "r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7104-4E07-4DAC-B8F9-86A526818D1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file pointer that the program can (and usually will) save in a vari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 = fopen("in.dat", "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opens in.dat for reading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it can’t open a fi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00AC-78B4-4EAF-BB66-FC5163588DC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ctors that determine which mode string to pas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ch operations are to be performed o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ther the file contains text or bin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397C-369F-46D3-AE52-2695ECD73F7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 strings for text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n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writ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append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, starting at begi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truncate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+"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append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6172-F55C-499F-A9ED-CF02A455F09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 strings for binary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n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writ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append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+b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, starting at begi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+b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truncate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+b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+"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append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5B9A-8487-4C44-A840-07BEB8D6ECC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 that there are different mode string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ata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pe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data is written to a file, it normally overwrites what was previously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file is opened for appending, data written to the file is added at the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A81A-B03B-4611-AC42-03433DEC123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al rules apply when a file is opened for both reading and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’t switch from reading to writing without first calling a file-positioning function unless the reading operation encountered the end of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’t switch from writing to reading without either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calling a file-positioning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7115-7EDE-4529-ACD4-8D64BC62BC7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los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allows a program to close a file that it’s no longer u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rgum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a file pointer obtained from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zero if the file was closed success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it returns the error cod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a macro 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58FE-16C8-474C-BAED-EF583D0F052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los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utline of a program that opens a file for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FILE_NAME "example.da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 = fopen(FILE_NAME, "r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p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Can't open %s\n", FILE_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F467-2AC5-42CF-8FFE-E0B71756377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trodu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pics to be cove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s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input and output redirection, and the difference between text files and binary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designed specifically for use with files, including functions that open and close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that perform “formatted” input/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that read and write unformatted data (characters, lines, and bl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ndom access operations on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that write to a string or read from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0B7B-51F6-4612-BFAA-484E9D30A27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los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’s not unusual to see the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mbined with the declarat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 = fopen(FILE_NAME, "r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 the test again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fp = fopen(FILE_NAME, "r")) == NULL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7132-0298-4302-B8E1-F606C845AF8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ttaching a File to an Open Stre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ttaches a different file to a stream that’s already op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most common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o associate a file with one of the standard stream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uses a program to begin writing to the f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freopen("foo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"w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rror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o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'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B8BC-5D95-4B02-A7DA-86D9B5C4E69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ttaching a File to an Open Stre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normal return value is its third argument (a file poin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can’t open the new fi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383F-D436-4068-BE5C-85AAB511E4E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ttaching a File to an Open Stre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adds a new twist: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null point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ttempts to change the stream’s mode to that specifi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arame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lementations aren’t required to support this fe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y do, they may place restrictions on which mode changes are permit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595B-5ED6-40F3-8379-97C8A4C6A33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Obtaining File Names from the Command Line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several ways to supply file names to a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ilding file names into the program doesn’t provide much flexi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mpting the user to enter file names can be awk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ving the program obtain file names from the command line is often the best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the command line to supply two file names to a program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names.dat dates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FF11-F88C-4DF0-AB53-6F43217AF04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Obtaining File Names from the Command Line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pter 13 showed how to access command-line arguments by def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a function with two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int argc, char *argv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number of command-line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n array of pointers to the argument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E5C6-AD0D-4624-A33A-8ACB0B745FB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Obtaining File Names from the Command Line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0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program name,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1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rough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argc-1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 to the remaining arguments, a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argc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null poin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xample,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3 a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the following appearanc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3508-9D55-4D35-B7BA-14ADE1B437E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6" descr=""/>
          <p:cNvPicPr/>
          <p:nvPr/>
        </p:nvPicPr>
        <p:blipFill>
          <a:blip r:embed="rId1"/>
          <a:stretch/>
        </p:blipFill>
        <p:spPr>
          <a:xfrm>
            <a:off x="1639800" y="3809880"/>
            <a:ext cx="57769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Checking Whether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 File Can Be Opened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determines if a file exists and can be opened for r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user will give the program a file name to che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gram will then print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'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user enters the wrong number of arguments on the command line, the program will print the messag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s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B0F2-ECB6-4A6E-93B1-73AB4A76AF4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hecks whether a file can be opened for reading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argc != 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usage: canopen filenam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fp = fopen(argv[1], "r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s can't be opened\n", 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s can be opened\n", 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BE5C-DF76-4E45-A774-E5624345F0A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s often need to create temporary files—files that exist only as long as the program is ru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two function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for working with temporary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CE48-B67A-4CEF-BF21-510AA023AFD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trodu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99, some I/O functions belong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wchar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wchar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deal with wide characters rather than ordinary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read or write data are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te input/output func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ilar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wchar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de-character input/output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A291-FEB4-4BBF-A76D-D21AE99532E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reates a temporary file (ope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+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ode) that will exist until it’s closed or the program 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file pointer that can be used to access the file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tempp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tempptr = tmpfi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reates a temporary fil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fails to create a fi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45CB-D481-42DD-8892-4F7D05A7AC0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backs of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n’t know the name of the file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re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’t decide later to make the file perma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lternative is to create a temporary file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useful for ensuring that this file doesn’t have the same name as an existing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DD79-EDAB-4B06-A708-6BDB322E6B2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enerates a name for a temporary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s argument is a null point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the file name in a static variable and returns a pointer to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file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 = tmpnam(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reates a temporary file nam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C1B8-7326-412A-9FDE-F3C070C052C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pies the file name into a character array provided by the programm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filename[L_tmpnam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(file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reates a temporary file nam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is cas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so returns a pointer to the first character of this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_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acro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specifies how long to make a character array that will hold a temporary file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2830-10BE-4F29-A981-3E6C094CB74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_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cro (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specifies the maximum number of temporary file names that can be generat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fails to generate a file nam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1364-EE1A-4E94-A9E4-DBB87F9246E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ferring data to or from a disk drive is a relatively slow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ecret to achieving acceptable performance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fferin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 written to a stream is actually stored in a buffer area in memory; when it’s full (or the stream is closed), the buffer is “flush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streams can be buffered in a similar way: the buffer contains data from the input device; input is read from this buffer instead of the device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ABF5-F506-4272-9B85-DFF3E91E796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ffering can result in enormous gains in efficiency, since reading a byte from a buffer or storing a byte in a buffer is very f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takes time to transfer the buffer contents to or from disk, but one large “block move” is much faster than many tiny byte mo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erform buffering automatically when it seems advantage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rare occasions, we may need to use the functio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8754-4905-4A7C-A0EA-5DC628472B5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 program can flush a file’s buffer as often as it wi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that flushes the buffer for the file associat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(fp);   /* flushes buffer for fp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that flush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utput stre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(NULL);  /* flushes all buffers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zero if it’s successful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n error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0D8D-50CA-4F33-9B91-5CEC7E6F4C0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lows us to change the way a stream is buffered and to control the size and location of the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’s third argument specifies the kind of buffering des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F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full buff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L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line buff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N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no buff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ll buffering is the default for streams that aren’t connected to interactive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329B-FFF4-4B55-A046-930CB3F0F3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second argument (if it’s not a null pointer) is the address of the desired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uffer might have static storage duration, automatic storage duration, or even be allocated dynam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last argument is the number of bytes in the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00D1-F335-45C7-9211-E5990188FF3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ream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, the ter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ans any source of input or any destination for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small programs obtain all their input from one stream (the keyboard) and write all their output to another stream (the scree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rger programs may need additional stre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s often represent files stored on various 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they could just as easily be associated with devices such as network ports and pr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5A50-6E5A-4A8D-89C6-B841037F479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hanges the buffering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full buffering,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f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as the buff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buffer[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(stream, buffer, _IOFBF,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called 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opened but before any other operations are performed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5381-CB39-4431-AA16-5ACD09859CD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’s also legal to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a null pointer as the second argument, which request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reate a buffer with the specified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zero if it’s success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returns a nonzero value i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gument is invalid or the request can’t be hon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E851-CDC2-43BD-B946-663A3D731E4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n older function that assumes default values for the buffering mode and buffer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null pointer, 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(stream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quivalen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(void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(stream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NBF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it’s equivalen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(void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(stream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FBF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SIZ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SI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acro 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nsidered to be obso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2849-799E-4DEA-AE6A-3C7085220FC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iscellaneous 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allow a program to perform basic file management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like most other functions in this section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ork with 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am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zero if they succeed and a nonzero value if they f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3962-D8BC-4A9F-83A3-F90AA358559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iscellaneous 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eletes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("fo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deletes the file named "foo"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program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create a temporary file, it can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delete the file before the program term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effect of removing a file that’s currently open is implementation-def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685D-BE24-481E-B7FB-11C7C806849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iscellaneous 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nges the name of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("foo", "ba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names "foo" to "bar"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handy for renaming a temporary file created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 program should decide to make it perma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file with the new name already exists, the effect is implementation-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fail if asked to rename an open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6FE7-3AAE-4BCF-BA04-89E427CE377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ormatted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xt group of library functions use format strings to control reading and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related functions are able to convert data from numeric form to character form during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related functions are able to convert data from character form to numeric form during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49D8-063B-46DB-A006-5FD9B17FC1A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write a variable number of data items to an output stream, using a format string to control the appearance of the outpu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totypes for both functions end with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..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ymbol (an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lips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which indicates a variable number of additional argument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fprintf(FILE 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strea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char 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format, 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printf(const char 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format, 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the number of characters written; a negative return value indicates that an error occurr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64F1-733E-4263-95BB-B7BF5C339F1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ways writ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s to the stream indicated by its first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Total: %d\n", tot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writes to stdou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fp, "Total: %d\n", tot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writes to fp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quivalent to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the first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B99D-BC11-461E-9D77-4E2D3FCCB52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orks with any output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its most common uses is to write error messag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</a:t>
            </a: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Error: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data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't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.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a messag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uarantees that it will appear on the screen even if the user redirect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4829-B93B-4E38-B0DD-4AE96A16E8E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ing a stream is done through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inte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hich has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 is decla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ertain streams are represented by file pointers with standar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file pointers can be declared as nee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1, *f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C753-AAA7-40A2-A401-7F349835CD2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wo other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write formatted output to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,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re fairly obsc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rely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a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which is decla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arg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 they’re discussed along with that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2C62-3801-48C3-BBEA-DE80C2876F6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quire a format string containing ordinary characters and/or conversion specif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dinary characters are printed a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 describe how the remaining arguments are to be converted to character form for dis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2215-B8A1-41D6-AE23-DD2B6A25BA9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cation consist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, followed by as many as five distinct i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A6E8-480D-4DFB-9D7A-575B12F0CD2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6" descr=""/>
          <p:cNvPicPr/>
          <p:nvPr/>
        </p:nvPicPr>
        <p:blipFill>
          <a:blip r:embed="rId1"/>
          <a:stretch/>
        </p:blipFill>
        <p:spPr>
          <a:xfrm>
            <a:off x="2411280" y="2994120"/>
            <a:ext cx="4230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; more than one permitt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a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     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ft-justify within fie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s produced by signed conversions always begin 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negative numbers produced by signed conversions 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eded by a spa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tal numbers begin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nonzero hexadecimal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Floating-point numbers always have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cimal point. Trailing zeros aren’t removed from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inted with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s are padded with leading zeros up to the field widt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zero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5B7A-6A56-4F71-8111-EEC8FAFF324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nimum field 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An item that’s too small to occupy the field will be pad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default, spaces are added to the left of the i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tem that’s too large for the field width will still be displayed in its entir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eld width is either an integer or the charac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resent, the field width is obtained from the next arg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3045-F382-49C8-8D53-2936BA0A5A5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The meaning of the precision depends on the convers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nimum number of digits (leading zeros ar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ed if the number has fewer digit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digits after the decimal poi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significant digi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number of by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ecision is a period (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followed by an integer or the character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ff7706"/>
              </a:buClr>
              <a:buFont typeface="Times New Roman"/>
              <a:buChar char="–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If </a:t>
            </a:r>
            <a:r>
              <a:rPr b="1" lang="en-US" sz="2300" spc="-1" strike="noStrike">
                <a:solidFill>
                  <a:srgbClr val="ff7706"/>
                </a:solidFill>
                <a:latin typeface="Courier New"/>
                <a:ea typeface="新細明體"/>
              </a:rPr>
              <a:t>*</a:t>
            </a:r>
            <a:r>
              <a:rPr b="1" lang="en-US" sz="23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 is present, the precision is obtained from the next argum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5992-465A-4BA2-A1D2-6314DE632BD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 mod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Indicates that the item to be displayed has a type that’s longer or shorter than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rmally refers 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h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ed to display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ed to display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3399-24D5-4A02-8399-A13F1F087BD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s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h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ell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wint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wchar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effe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77A3-073C-460A-BFBA-0CD0DB89730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s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l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ell-ell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max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intmax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max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z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t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diff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diff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88FD-9435-4301-AA88-7D8A1FEDC79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one of the characters in the following 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</a:t>
            </a: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d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decimal for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o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u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x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base 8 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se 10 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or base 16 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 th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exadecimal digit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lower case;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m in upper cas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f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decimal form, putt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ecimal point in the correct position. If no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 is specified, displays six digits after th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cimal poi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C300-BD62-4775-9E50-79C5D21D648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three standard stre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int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fault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dard 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dard 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dard 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r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streams are ready to use—we don’t declare them, and we don’t open or clo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9C2E-E75E-4360-8285-47EC887D239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e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scientific notation. If 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 is specified, displays six digits after th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cimal point. I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hosen, the exponent is prece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the lett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i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hosen, the exponent is prece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g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eith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 o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ooses betwee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hexadecimal scientif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ation using the form [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]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.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hhh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±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hex digit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lower case;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 them i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pper case. The choice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so affects the cas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etter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7542-A77B-41EB-ABFA-C66930DA0E0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plays a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as an unsigned characte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s the characters pointed to by the argument. Stop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when the number of bytes specified by th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 (if present) is reached or a null character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counter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printable for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4000" spc="-1" strike="noStrike">
                <a:solidFill>
                  <a:srgbClr val="b82f25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rresponding argument must point to an object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Stores in this object the number of charac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ten so far by this call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produces 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pu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s the charact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5B91-E286-4084-A947-AD6C2E818E4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99 Changes to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changes to the conversion specifications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length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conversion spec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bility to write infinity and 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rt for wid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iously undefined conversion specifications now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08E8-D272-49DF-89EC-72CA9A32EB4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flags on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123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–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-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-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•••••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123••••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+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+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-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 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-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0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00000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0000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-+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+123••••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123••••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- 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123••••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123••••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+0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+0000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0000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 0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0000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0000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5CA2-96B7-477D-937F-AA8810F0F39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#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lag on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123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123.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01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•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0x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•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0X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123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123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E2E0-BF4B-4D1B-909F-DF39754FF49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the minimum field width and precision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      Result of Appl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          Conversion to              Conversi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"bogus"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"buzzwor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6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bogu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-6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ogus•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.4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ogu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6.4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bogu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buzz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-6.4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ogu••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••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4438-D3B5-4CFB-9BFF-BA26D1F3958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how 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displays some numbers i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 and others i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      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%.4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                   Conversion to Numb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456.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+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45.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+0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4.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.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.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.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2.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-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0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-0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25D0-EC3C-4C68-BA37-3346464A955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minimum field width and precision are usually embedded in the format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tt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 where either number would normally go allows us to specify it as an arg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format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produce the same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6.4d"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.4d", 6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6.*d", 4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.*d", 6, 4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EADE-A387-4E20-B417-648757B5F0B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major advantag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at it allows us to use a macro to specify the width or preci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d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IDTH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width or precision can even be computed during program exec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d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age_wid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cols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3C05-AA0C-4EE6-8720-48110B05E49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is used to print the value of a poin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p", (void *) 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displays value of pt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ointer is likely to be shown as an octal or hexadecimal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6C74-9C17-4A36-8EFA-FCF924A4EDD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/O functions discussed in previous chapters obtain input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send outpu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operating systems allow these default meanings to be changed via a mechanism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DA85-F147-4883-8415-4BA13506A33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is used to find out how many characters have been printed so far by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the following call,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be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d%n\n", 123, &amp;le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A422-13BC-44A3-9E36-88C08DBE0E3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 data items from an input stream, using a format string to indicate the layout of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the format string, any number of pointers—each pointing to an object—follow as additional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items are converted (according to conversion specifications in the format string) and stored in these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8E04-6163-4676-A60F-B7A447BE759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ways reads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from the stream indicated by its first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%d", &amp;i, &amp;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ads from stdi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(fp, "%d%d", &amp;i, &amp;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ads from fp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quivalent to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the first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7B09-69CF-43D7-B35B-BD6A2AA604A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rrors that ca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to return prematur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no more input characters could be 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the input characters didn’t match the format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99, an input failure can also occur because of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coding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B570-264A-4E3B-8A54-68B3ACA80CC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return </a:t>
            </a:r>
            <a:r>
              <a:rPr b="1" lang="en-US" sz="2800" spc="-1" strike="noStrike">
                <a:solidFill>
                  <a:srgbClr val="b82f25"/>
                </a:solidFill>
                <a:latin typeface="Times New Roman"/>
                <a:ea typeface="新細明體"/>
              </a:rPr>
              <a:t>the number of data i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were read and assigned to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n input failure occurs before any data items can be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ops that t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 are 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reads a series of integers one by one, stopping at the first sign of trou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scanf("%d", &amp;i) == 1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B04C-7ABD-4EE1-8795-395780D0059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resemble thos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work differ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ormat string represents a pattern tha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attempts to match as it reads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input doesn’t match the format string, the function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put character that didn’t match is “pushed back” to be read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CEBA-7AF9-41F0-80E7-543CE845890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at string may contain three th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te-spac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-white-spac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3F1F-AE3C-40B8-B87B-80FC04A2169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cations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at string resemble those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at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conversion specifications skip white-space characters at the beginning of an input item (the exceptions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[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 never skip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i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hite-space character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6E7D-0B53-4360-918F-9A74E1EF8C2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te-space charact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ne or more white-space characters in a format string match zero or more white-space characters in the input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-white-space charact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non-white-space character other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the same character in the input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112E-D4D5-4E65-B5F4-A52F370F870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ormat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ISBN %d-%d-%ld-%d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s that the input will consist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etters ISB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sibly some white-space charact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teg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teger (possibly preceded by white-space character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ng integer (possibly preceded by white-space character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teger (possibly preceded by white-space character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CFF3-4D96-4113-BCA0-F4FD55BA064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ypical technique for forcing a program to obtain its input from a file instead of from the keyboa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lt;in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technique is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put redir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imi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gt;out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data written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now go in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ut.d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ile instead of appearing on the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F674-977D-4AE6-8D1A-FFF1C076820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cation consists of the charac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llow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field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 mo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Signif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ignment suppress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 input item is read but not assigned to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ems matche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n’t included in the count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DFCE-805F-440C-8648-412D99E1B30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field 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Limits the number of characters in an input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te-space characters skipped at the beginning of a conversion don’t 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 mod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Indicates that the object in which the input item will be stored has a type that’s longer or shorter than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able on the next slide lists each length modifier and the type indicated when it is combined with a conversion specif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B12E-EA88-4BAD-9A37-D65E1D1E570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6858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r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h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wchar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l-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max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intmax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z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diff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3E54-F482-4B0B-BB66-1823B378E9E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Must be one of the characters in the following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decimal integer; the correspond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n integer; the corresponding argument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The integer is assumed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be in base 10 unless it begins with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indicat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tal) or with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hexadecimal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n octal integer; the corresponding argument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decimal integer; the correspond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751F-6A0B-46FE-A160-102B7D6C3A9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hexadecimal integer; the correspon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unsigned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floating-point number; the correspon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loa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s, where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maximum fiel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dth, or one character if no field width is specified. Th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rresponding argument is assumed to be a pointer to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 array (or a character object, if no field width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d). Doesn’t add a null character at the en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sequence of non-white-space characters,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s a null character at the end. The correspon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be a pointer to a character array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E90B-A241-4F2A-A0CC-8042E2833B5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nonempty sequence of characters from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set, then adds a null character at the end. Th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rresponding argument is assumed to be a pointer to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 array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pointer value in the form tha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uld have written it. The corresponding argument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d to be a pointer to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bjec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rresponding argument must point to an object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Stores in this object the number of charac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 so far by this call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No input is consum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the return value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affect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the charact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8E55-CCF3-4066-966A-EC8154E56E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eric data items can always begin with a sig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s convert the item to unsigned form, however, so they’re not normally used to read negativ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464F-03E6-4623-BB8E-608EF700F82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 is a more complicated (and more flexible) version of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onversion specification using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the form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^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any set of characte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equence of characters in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the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^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equence of characters not in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[abc]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tring containing only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[^abc]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tring that doesn’t contai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18C5-A6C4-4063-A5AF-61FF7D65535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ers are closely related to the numeric conversion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lib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convert strings (li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-297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their equivalent numeric values (–29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, for example, looks for an option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ign, followed by decimal digits; this is the same form tha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t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requ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B8FF-32FF-4E49-96F6-8CBA449A3FA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rrespondence betwe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ers and numeric conversion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eric Convers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0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0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8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0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6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2E80-A6B4-47B3-986D-2A12944AAA0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39:05Z</dcterms:created>
  <dc:creator>K. N. King</dc:creator>
  <dc:description/>
  <dc:language>en-US</dc:language>
  <cp:lastModifiedBy>YKCHANG</cp:lastModifiedBy>
  <cp:lastPrinted>1999-11-08T20:52:53Z</cp:lastPrinted>
  <dcterms:modified xsi:type="dcterms:W3CDTF">2013-01-08T15:25:10Z</dcterms:modified>
  <cp:revision>1371</cp:revision>
  <dc:subject/>
  <dc:title>No Slide Title</dc:title>
</cp:coreProperties>
</file>