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4B15-ECB4-4CEE-AB81-5C47687A7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5F0B-9349-43D2-97F8-5634C8ADFB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59F2-3C95-4556-8CCB-B80E59C698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494A-327F-4E1B-A77A-DF2DC960D3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82F6-178F-4A18-8E17-F2425FEB66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CF8E-8944-4130-A106-8061728DD3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FB41-BDFD-4984-9E2C-FD7165C4B3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CE40-6DC8-4268-BAC7-CCFD6A6D123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AAAFC-CA3D-4477-B745-0E528F564D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3F47-375E-42D2-8E58-499DB5A887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9DDB-0428-43F5-9717-1DE43A816E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96A37-5E69-4B1B-AE4D-07E3641CC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2AAE-9AE8-4E1F-A1FC-054D6DF808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5D5A7-2FDF-4427-B7A3-6811B51351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A5DB9-B74E-427E-9BE5-C009BD061A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EAF36-5D8E-49D2-8189-291B7A416C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55016-A817-4EDC-9E29-2580D3D393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3DE26-6861-44D7-8CCD-1E043B7359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D6801-C3CC-4270-87B3-D0F9D7D839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7ED1E-92A2-4F98-B8A1-498FCC6505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16143-31B3-4376-A6F0-0F1A855009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69E19-D0E0-4ED3-8AD6-5CE0F9C1CEE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D8F6A-ED65-4574-99BA-D6FDFF8FB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6AE4-8420-4F41-9214-C9C0AC5839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67B4C-0A8B-4AC8-A42E-986055B237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EC9AB-2CDA-4F57-A2F0-A3A5CA4A34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4DC62-7FA7-45E2-9AC7-6985E08771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7B9A6-2C52-4AD9-A16B-EC084424B9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FA0FE-C690-41BF-97B7-BF35CDE42FE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E4668-350C-4A70-B9C6-8AA292724C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A5C77-620F-462F-A0F3-A165FE5579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4CC386-AD2A-4E3D-8B72-BB020BD9D8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547191-57EF-4CCE-948F-AEB11AC4EE2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2BD7F-477F-4109-BB1F-F1B4AE1E0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99E05-8FDC-4335-8D74-03440F9988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0D87EC-4977-4677-A45E-232E18ACA3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9E5C34-59C2-4CE7-ADC1-2304329FC0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DFF7C5-4B13-4030-97BA-02DA00FD3E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6786-C378-4683-A1CD-03EC58D8E3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BC29-00D6-47CC-A592-82EF880B697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267E4-9E83-4A10-8FE9-1B62643718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698D-52CC-46B9-9BCB-35DBFCD3FB3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532A3-D666-48D1-9202-D65EF8BC86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569E-9B27-4BC1-B2B9-8490376C55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A6F8F-733A-46BF-88C3-B7BA32BBBB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1760C-E946-4C09-AEA6-067DADDD93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54C5-E53B-4E98-B9D7-55ACD168574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1FC0C-6E04-440D-9FBD-82A7B8F1D3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976B-7E54-4C43-85D7-1D46B550CE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3A56-D543-4782-B1B9-E5DDD35761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ABDC1-A95F-48C7-BEBF-7AA76DCD1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FEEF-7C6C-4F70-806C-977EF5F4F0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1CE7B-61CD-4116-8CF6-DB65D0FE1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6E8C-E430-4388-BF9B-C6B3EA220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B4279-5147-4311-A115-138E511A0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6EEF5-4090-4200-99BE-C17F7EC2F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C30B-E86B-4FA5-B1AE-C2521442D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8CDA-5B50-487E-9C26-1AC8457A2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212B8-9C5E-4C9C-BB60-10405B9B31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13D17-59B5-40E6-A93E-658D4C5358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C22DF-C2C6-435D-92AB-49BB200D6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59F6-5098-4874-9ADA-65E58E7A08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5AF-0126-4BC0-BDE9-99914CAD2F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8324-787A-4885-9CB5-3E42B9CDCC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F1B2-8D60-4257-B8A1-3779BF292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EB9-AC73-4B01-A04B-86587C7960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148-20AE-4B97-9115-442E26956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5637-B1EE-4770-8235-B5435A4F04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C9C-FB24-47A9-95F2-BCC01F3EA1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D891-703F-4492-A23D-4611CAD59C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971F-358D-4679-ABC0-86E881EA71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90F-A6DD-434C-AA7E-A03FAB676C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ACD3-5AFA-402E-B81C-A30F927407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D7B6-81F3-4D25-A079-65B14C3F85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4F6B-6F42-4063-8D24-1B195EA18D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42BD2-54FB-41DF-BD27-C4F8E0AF20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F686A-EBD4-4ED9-AA1B-51D847FB11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3EB17-4B0B-49B5-9644-C09F67455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6D3A-DECE-44D8-9502-51BFDD2169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A1CC0-A4B2-4979-9121-5573F01FB1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C6B39-8804-4B39-BBBA-7085151E3A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D4458-F5FC-4DCA-8877-36B6AD7024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77915-F3F3-4910-AAAC-85E2214CF0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43DB4-F418-4DC9-A692-FBC40196EC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D42D4-29DB-479E-8F82-926B4D6DC3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5AB81-F78E-499E-B203-614CD7C3A7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F2E74-3E60-4A73-B7D8-C2DC56CC12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C59ED-8B1E-45E3-8D42-71DF842D89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A5973-A6C7-4E96-9ED5-7D1D8305F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3AEC-3C35-4CA2-98E9-6D07C134A5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F71BF-2346-4778-BFF4-80B2BF8B73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885B3-401B-451E-AEDE-B766F86563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360FC-81A2-446D-8FDE-77AAA6CF89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932F3-2416-4E00-A1AF-7B0CAE2D34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84078-6BC7-4B7B-8723-19F14A446E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05824-AAF1-4617-A2F1-E62DE1C81C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85D5C-4BDB-46C5-AFA1-47779387AE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86310-9390-4B56-A917-A431D50146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1E381-5EA8-4BD7-85CD-18676A6334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22DCB-D70F-4825-85F0-AE8F63070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84AA-F85B-44BC-8237-3A128F76BC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0F7D8-880F-4801-91DF-396875091D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9C6D-89D7-4D8B-80D8-C5748ABCBC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A96F-890D-4273-9752-76EB2B3028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A135-8BC6-4064-8D84-FDC7807BB0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2AD9-07EE-43EB-8B1B-E00758B6D8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5D6D-EA69-4A71-A7F6-713D7DA2A8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48F2-49DC-4842-9119-7BB7513253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F217-10AC-48D3-BFBC-F665F51006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8148-B17F-4E4E-98DC-6FDCC2AD7A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5418-D5DC-458A-9C64-4CC1B50EB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654A-E205-43B6-B93F-DBD9C7BC44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9326-9282-46A2-8180-0F01E33F98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7A1A-55DF-4190-ADFE-7479566E76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30AA-7C21-4447-8725-29DFC86D58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ACAF7-9C9E-481C-A5AD-D7DCEB55EA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C2746-E731-4816-A56F-2669869C3C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ACBAD-82F2-4D95-A588-5E834B5A2B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EA44B-0468-470F-A680-EA7ADF8F6D0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0DEF3-7DDD-4D3C-9101-058CA08887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0D5A1-2198-45E9-9D5E-9B1523AB21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62C86-614B-4387-8FCB-334EE133E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B195-35E7-433C-97E2-C95BACBB02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381AF-2978-41E8-B7CD-55319FFE4B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D5CE8-07A6-4B5B-8302-8F5FACA357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40629-CDAA-4906-AE15-3B589CE13A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AD9FA-8854-41A8-958F-AD5523B22C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D9BFD-5781-44AA-81BC-B09C2C2824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80D43-E815-4A3D-9F36-0F2D2E0DB4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82826-685D-4ED9-A2CE-2B527E6C8D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C3B76-5C51-49E7-B82C-56F9F91B133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3D3D5-BE1E-40E2-A6A9-AC7B501DA9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BABA6F-C3F1-4581-9732-A9BB8928D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ABBA-B06B-425E-9B78-C856F9E938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66A69-3A46-4EF5-A7F6-1E3C1ED55E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D8017-087D-49D3-B521-A0FC6D1C2A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0888D-DB1D-42DB-877A-6148E7663B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721987-ED81-46D0-8716-5A0B192B11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E271C-1C8A-4BF3-A231-17EB3D7E93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478E6-B5BA-4C61-9941-E208F56560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1F7D1-B6DE-48F1-ABA0-93347D955FF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AC8A-0A60-40B3-8C5A-65389FF8E2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645F-DE40-4F70-81C0-88DF0502D4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3521-0CB4-4898-A4C7-6DFDC3455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565-3CBD-4062-9409-77134C4953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2A53-ACF3-4DB1-9596-B72C575767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CCD9-625B-4A94-B7CF-289EE3E2FA4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7BE-E6B0-4E32-A45C-3627D42483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539-05F8-41B4-A980-416A3AEF92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02AE-69E6-43D3-B5BC-BFCC901BDC5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74B-3EB2-4408-8E20-8EC00719E5E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263-E41D-4CE3-A114-29A3F944C5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297-9792-434E-9F4E-8F0793571B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EDF-5BFB-4906-AE18-4D8CE7E5A5E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B2A-DE85-4EDD-B311-CCB09F3A1E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5415-E848-43B7-998D-C9B10F995F5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6D4-4702-43E6-885A-4F8B513814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17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Uses of Poi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memory for a st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character requires one byte of memory; adding 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ves room for the null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prefer to ca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, although the cast is not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(char *)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31B-AD69-413F-915E-2750CC3944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that its parameters have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we can’t access the member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thr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olve the proble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ssign its paramete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variabl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D738-B7BB-4F9A-84B5-E5EB92E362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into ascending order by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p1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q1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1-&gt;number &lt;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p1-&gt;number ==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09D0-C78B-4A47-8C65-E85A504622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 programmers would write the function more concis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(struct part *) p)-&gt;numbe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((struct part *) p)-&gt;number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AFA5-FE2A-448B-AEB0-86AF7D7DD0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even shorter by remov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((struct part *) p)-&gt;numbe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3347-687C-4FA6-A60C-50D9A957CAF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by part name instead of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trcmp(((struct part *) p)-&gt;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CAE-E767-4655-91F3-33A4D82F4E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function pointers are often used as arguments, that’s not all they’re good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treats pointers to functions just lik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be stored in variables or used as elements of an array or as members of a structure or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even possible for functions to return function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2C9-B29A-4052-83AC-A57028F2E9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ariable that can store a pointer to a function wit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and a return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pf)(int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uch a function, we can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writing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f)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167E-27F2-47C9-B82C-D80D740065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rray whose elements are function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file_cmd[])(void) = {new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s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_c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F737-9146-4103-9027-CD646F4A65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function stored in pos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ile_cmd[n])()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[n]()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get a similar effec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, but using an array of function pointers provides mor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89A-FCA6-496A-AC7E-B8ED4E6EB1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prints tables showing the valu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is built around a function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, when passed a function poi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rints a table showing the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n argu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smallest integer that’s greater than or equa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2AB-BE05-4DB2-B61C-5F610985C4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alloc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cleared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an uninitialized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69E-69FD-4440-944D-DE92BC034D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2411280" y="2986200"/>
            <a:ext cx="4243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ssion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iti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fin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crement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cos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1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99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98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955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921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87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CE6-2E74-4F26-B631-E0E9BC021D5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si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09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1986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295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389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4794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ta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100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202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309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422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546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66C8-E80F-4508-AA21-B605778D3D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Tabulates values of trigonometric function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final, increment, ini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iti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iti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fin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crement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399-9210-4E11-A611-06FE834D6C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cos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cos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si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si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ta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ta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last - first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first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10.5f %10.5f\n", x, (*f)(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1A2-8516-4BF1-AA86-B87E7FF149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1062000" y="1339920"/>
            <a:ext cx="1484280" cy="1458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927000" y="2817720"/>
            <a:ext cx="7661520" cy="3402000"/>
          </a:xfrm>
          <a:prstGeom prst="rect">
            <a:avLst/>
          </a:prstGeom>
          <a:ln w="0">
            <a:noFill/>
          </a:ln>
        </p:spPr>
      </p:pic>
      <p:sp>
        <p:nvSpPr>
          <p:cNvPr id="968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855C-FBAF-4391-8E3E-DBEBD2CF34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46800" cy="3888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2543040" cy="1752480"/>
          </a:xfrm>
          <a:prstGeom prst="rect">
            <a:avLst/>
          </a:prstGeom>
          <a:ln w="0">
            <a:noFill/>
          </a:ln>
        </p:spPr>
      </p:pic>
      <p:sp>
        <p:nvSpPr>
          <p:cNvPr id="97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8E2-1AE6-4BCE-AC0B-93249C5CAC6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05600" cy="1800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7886520" cy="1352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7416720" cy="1657440"/>
          </a:xfrm>
          <a:prstGeom prst="rect">
            <a:avLst/>
          </a:prstGeom>
          <a:ln w="0">
            <a:noFill/>
          </a:ln>
        </p:spPr>
      </p:pic>
      <p:sp>
        <p:nvSpPr>
          <p:cNvPr id="975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B567-3434-428D-A5F2-DEA1628748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rrays of Pointers to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7661520" cy="4857840"/>
          </a:xfrm>
          <a:prstGeom prst="rect">
            <a:avLst/>
          </a:prstGeom>
          <a:ln w="0">
            <a:noFill/>
          </a:ln>
        </p:spPr>
      </p:pic>
      <p:sp>
        <p:nvSpPr>
          <p:cNvPr id="978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4F3-2BFD-4105-A962-757FA8270B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647640" y="81000"/>
            <a:ext cx="7848720" cy="6696000"/>
          </a:xfrm>
          <a:prstGeom prst="rect">
            <a:avLst/>
          </a:prstGeom>
          <a:ln w="0">
            <a:noFill/>
          </a:ln>
        </p:spPr>
      </p:pic>
      <p:sp>
        <p:nvSpPr>
          <p:cNvPr id="980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CA8F-02FD-4431-80D8-95C54C6D423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40920" cy="4321080"/>
          </a:xfrm>
          <a:prstGeom prst="rect">
            <a:avLst/>
          </a:prstGeom>
          <a:ln w="0">
            <a:noFill/>
          </a:ln>
        </p:spPr>
      </p:pic>
      <p:sp>
        <p:nvSpPr>
          <p:cNvPr id="982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15D-6F0E-4EF5-BEE5-57CC321E5A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e way to initialize thi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four characters in the array will now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975-DC38-47C7-8BBB-7EE287EF20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424240" y="3538440"/>
            <a:ext cx="4230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329440" cy="3503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6769080" cy="2643120"/>
          </a:xfrm>
          <a:prstGeom prst="rect">
            <a:avLst/>
          </a:prstGeom>
          <a:ln w="0">
            <a:noFill/>
          </a:ln>
        </p:spPr>
      </p:pic>
      <p:sp>
        <p:nvSpPr>
          <p:cNvPr id="985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2C6E-99F3-4291-998D-7DDC3F608D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appear in the declaration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tricted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nt is that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an object that is later modified, then that object is not accessed in any way other than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more than one way to access an object is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a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D47-2763-463B-B39F-2B89138FC7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ly it would be legal to cop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n modify the integer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defin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restricted pointer, the effect of executing the stat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n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D17-17B8-4264-AFA9-947D8581EB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illustra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copies bytes from one object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nother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 restrict s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void * restrict 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objects to which they point shouldn’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E1D2-0665-4D85-9931-84EBCA55BC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ontras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appear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is guaranteed to work even if the source and destination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hift the elem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(&amp;a[0], &amp;a[1], 99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041-C1C2-4141-A0EF-1F079D8116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or to C99, there was no way to document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the two functions were nearly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C99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prototype is a warn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should no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5FB5-7BC1-4BBD-A2A3-E822B83884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information to the compiler that may enable it to produce more efficient code—a proces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standard guarante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a program that conforms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programmers w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less they’re fine-tuning a program to achieve the best possibl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7017-2EDB-42F2-A394-67F3A11D2B6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casionally, we’ll need to define a structure that contains an array of an unknown siz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might want a structure that stores the characters in a string together with the string’s lengt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fixed-length array is undesirable: it limits the length of the string and wastes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EF2-B652-45C6-9EB5-31925EEBCD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programmers traditionally solve this problem by declaring the leng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1 and then dynamically allocating each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1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 - 1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the “struct hack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3B3-D996-4B3C-BF43-2AEC846C6F0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 hack is supported by many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(including GCC) even allow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to have zero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standard doesn’t guarantee that the struct hack will work, but a C99 feature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exible array m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es the same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A0E4-631F-4C94-94BE-095CA08B783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makes it possible to write functions that return a pointer to a “new”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writing a function that concatenates two strings without changing either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 will measure the lengths of the two strings to be concatenated, the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the right amount of space for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D8C6-F6DF-4B56-9774-1A93467A97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ast member of a structure is an array, its length may be omi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]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lexib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rra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ber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99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ngth of the array isn’t determined until memory is allocated for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v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gnor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when computing the size of the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0723-B66E-40D4-B0D4-1BAA0C5894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for structures that contain a flexible array 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lexible array must be the last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ure must have at least one other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a structure that contains a flexible array member will copy the other members but not the flexible arra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F58-AE57-4EEF-A4A9-FE97E64815C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ucture that contains a flexible array member is an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complete type is missing part of the information needed to determine how much memory it requi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s are subject to various restri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n incomplete type can’t be a member of another structure or an element of an arr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an array may contain pointers to structures that have a flexible array memb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2EB9-2C88-4CFE-8BD7-AB1F262E02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concat(const char *s1, const char *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trlen(s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len(s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sult == NULL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\n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sult, 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sult, s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715D-E780-4658-AC10-471DBC06D8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oncat("abc", "de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de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stored in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9C5-079C-4640-8C06-58E2651DA7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dynamically allocate storage must be used wi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tring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is no longer needed, we’ll wan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the space that the string occu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don’t, the program may eventually run out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591-333D-4761-9F1B-541C8BA24A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based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of Chapter 13, which prints a one-month list of daily remin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stores reminder strings in a two-dimensional array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the array will be one-dimensional; its elements will be pointers to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1DB4-2AE9-497A-8D06-65DCD6F786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switching to dynamically allocated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space more efficiently by allocating the exact number of characters needed to store a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oids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existing reminder strings in order to make room for a new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itching from a two-dimensional array to an array of pointers requires changing only eight lines of the program (show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A23-6C2A-4E72-A9FD-E18C1DA582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rints a one-month reminder list (dynamic string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REMIND 50   /* maximum number of remin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SG_LEN 60      /* max length of reminder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minders[MAX_REMI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day_str[3], msg_str[MSG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day, i, j, num_remi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C57-D293-4E94-8F66-4D5009806F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data structures, including arrays, are normally fixed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-size data structures can be a problem, since we’re forced to choose their sizes when writing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tunately, C suppor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ability to allocate storage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dynamic storage allocation, we can design data structures that grow (and shrink)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AB7-B41E-4919-99E0-E395C5C69B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um_remind == MAX_REMI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day and remind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2d", &amp;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ay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y_str, "%2d", 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msg_str, MSG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strcmp(day_str, reminders[i])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j = num_remind; j &gt; i;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j] = reminders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C10-85C8-434C-B009-0F758671C3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i] = malloc(2 + strlen(msg_str) +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minders[i]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minders[i], day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minders[i], msg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remind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Day Reminde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 %s\n", reminders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CA1-6645-4DFD-BD81-752ED32B81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,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har()) != '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i &lt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++] =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] = 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5B1-B13F-4939-BC6B-9C5732FDFD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Array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arrays have the same advantages as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lose relationship between arrays and pointers makes a dynamically allocated array as easy to use as an ordinar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allocate space for an arra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ometimes used instead, since it initializes the memory that it allo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us to make an array “grow” or “shrink”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A0F-85B1-491D-A2EF-1C9B25DB49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a program need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mputed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first declare a point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known, the program ca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space for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malloc(n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to calculate the amount of space required for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09C-6BE0-46CD-8B37-2E3F2A099D3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ignore the fact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and use it instead as an array name, thanks to the relationship between arrays and pointers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could use the following loop to initialize the arra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lso have the option of using pointer arithmetic instead of subscripting to access the elements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1A4-41F3-4FAB-9478-44F33EBC49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alternativ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calloc(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s space for an array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lements, each of which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s a null pointer if the requested space isn’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s allocated memory by setting all bit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5E7F-0BEC-4E30-A0A2-AB58128400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space for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calloc(n,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 as its first argument, we can allocate space for a data item of any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oint { int x, y; }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alloc(1, sizeof(struct po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542-1302-485A-BB76-3B20F1B51C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an resize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realloc(void *ptr, 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a memory block obtained by a previous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s the new size of the block, which may be larger or smaller than the origin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EFD7-EED0-4005-811D-83107285E5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expands a memory block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initialize the bytes that are added to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enlarge the memory block as requested, it returns a null pointer; the data in the old memory block is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a null pointer as its first argument, it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0 as its second argument, it frees the memory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675-DFE2-4752-9594-5E872E97F1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used most often for strings, arrays, and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structures can be linked together to form lists, trees, and other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done by calling a memory alloc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B5B-6CB3-4784-B5C7-832F19FE02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expec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reasonably effici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sked to reduce the size of a memory block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shrink the block “in plac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always attempt to expand a memory block without moving i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enlarge a block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llocate a new block elsewhere, then copy the contents of the old block into the new 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returned, be sure to update all pointers to the memory block in case it has been mo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A0BB-0E57-4450-A280-462AE598EF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other memory allocation functions obtain memory blocks from a storage pool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hese functions too often—or asking them for large blocks of memory—can exhaust the heap, causing the functions to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ake matters worse, a program may allocate blocks of memory and then lose track of them, thereby wasting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93B3-6053-4478-AFD8-355582A9D9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napshot after the first two statements have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4E0A-633C-4F75-ABBE-D109A53EF5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1"/>
          <a:stretch/>
        </p:blipFill>
        <p:spPr>
          <a:xfrm>
            <a:off x="3276720" y="4243320"/>
            <a:ext cx="24699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h variables now point to the secon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no pointers to the first block, so we’ll never be able to use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8F9-06D1-430D-A7DB-8A9AD8DF30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3282840" y="2541600"/>
            <a:ext cx="25084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lock of memory that’s no longer accessible to a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leaves garbage behind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l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languages provid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utomatically locates and recycles garbage, but C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, each C program is responsible for recycling its own garbage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unneeded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FFC7-EBE8-4537-9314-DEA23177EC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free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free(void *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passed a pointer to an unneede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leases the block of memor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E25-1EC3-4C38-9CD1-6344B89263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ds to a new problem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allocates the memory block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, but doesn’t chang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orget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 longer points to a valid memory block, chaos may ens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p = malloc(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the memory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is a serious err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A48-0541-41A5-A323-C841533202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 can be hard to spot, since several pointers may point to the same block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block is freed, all the pointers are left da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5A9-9D3F-45FE-8914-A5467BDB72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especially useful for building lists, trees, graphs, and other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ked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sists of a chain of structures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ith each node containing a pointer to the next node in the ch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st node in the list contai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57BC-472A-4B39-8793-AFFB388A61F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6" descr=""/>
          <p:cNvPicPr/>
          <p:nvPr/>
        </p:nvPicPr>
        <p:blipFill>
          <a:blip r:embed="rId1"/>
          <a:stretch/>
        </p:blipFill>
        <p:spPr>
          <a:xfrm>
            <a:off x="2286000" y="4425840"/>
            <a:ext cx="448164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inked list is more flexible than an array: we can easily insert and delete nodes in a linked list, allowing the list to grow and shrink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we lose the “random access” capability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element of an array can be accessed in the same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node in a linked list is fast if the node is close to the beginning of the list, slow if it’s near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73AD-952F-4EEA-B6C0-9B283E09F6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emory Allocation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declares three memory allocat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but doesn’t initializ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and clear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Resizes a previously allocated block of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turn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“generic”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D0B4-73E2-47E4-B1FA-40750ED842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t up a linked list, we’ll need a structure that represents a sing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ode structure will contain data (an integer in this example) plus a pointer to the nex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;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o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x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oi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tag, 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ame, or there would be no way to declare the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85E-0953-43A9-8679-D9EE64447D4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need a variable that always points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list is initially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8B9-11D3-4ECD-BF2A-99956E602D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we construct a linked list, we’ll create nodes one by one, adding each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s involved in creating a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 memory for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e data in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 the node into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concentrate on the first two steps 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59F-993E-4E2E-B730-7CB4D88EF0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reate a node, we’ll need a variable that can point to the node temporari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memory for the new node, saving the return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a block of memory just large enough to hol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FF5C-3E02-490E-BAFF-6D79018E46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2857680" y="5291280"/>
            <a:ext cx="33638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store data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ulting pi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mandatory be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would otherwise take precedence ov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F50-81E6-4C25-BC71-1DC0E2D738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2846520" y="3576600"/>
            <a:ext cx="33638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member of a structure using a pointer is so common that C provides a special operator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operator,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ght arrow select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inus sign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, we ca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42E-B187-48D1-BF57-10CFD90CFF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produces an lvalue, so we can use it wherever an ordinary variable would b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is still required, even 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48B-9E91-42D7-A7D4-3D6A79DD5B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advantages of a linked list is that nodes can be added at any poi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beginning of a list is the easiest place to insert a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node to be inserted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first node in the link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080-77ED-40A4-AF90-9127C7BE90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wo statements to insert the node in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step is to modify the new node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to point to the node that was previously at the beginning of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step is 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atements work even if the lis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C28-67CE-495D-97C2-03E77C5B8A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’s trace the process of inserting two nodes in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insert a node containing the number 10 first, followed by a node containing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4AA8-B337-45B8-9960-174C0164D0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memory allocation function can’t locate a memory block of the requested size, it return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ull pointer is a special value that can be distinguished from all vali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we’ve stored the function’s return value in a pointer variable, we must test to see if it’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5E3-6FDA-4649-95E5-CB362A784C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4708440" y="3352680"/>
            <a:ext cx="3686400" cy="12636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5C16-1BB1-4884-BC0C-A43B0F3A0C3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4699080" y="1676520"/>
            <a:ext cx="1365120" cy="1239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"/>
          <p:cNvPicPr/>
          <p:nvPr/>
        </p:nvPicPr>
        <p:blipFill>
          <a:blip r:embed="rId3"/>
          <a:stretch/>
        </p:blipFill>
        <p:spPr>
          <a:xfrm>
            <a:off x="4695840" y="4952880"/>
            <a:ext cx="3686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1"/>
          <a:stretch/>
        </p:blipFill>
        <p:spPr>
          <a:xfrm>
            <a:off x="4687920" y="4956120"/>
            <a:ext cx="3701880" cy="1222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458E-F045-419E-8C69-18A4334D08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"/>
          <p:cNvPicPr/>
          <p:nvPr/>
        </p:nvPicPr>
        <p:blipFill>
          <a:blip r:embed="rId2"/>
          <a:stretch/>
        </p:blipFill>
        <p:spPr>
          <a:xfrm>
            <a:off x="4686480" y="1685880"/>
            <a:ext cx="3708360" cy="12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3"/>
          <a:stretch/>
        </p:blipFill>
        <p:spPr>
          <a:xfrm>
            <a:off x="4726080" y="3368520"/>
            <a:ext cx="3679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973-D3BC-449F-A4CE-EFDE125B36D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4700520" y="1685880"/>
            <a:ext cx="3679920" cy="1222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4726080" y="3343320"/>
            <a:ext cx="3668760" cy="1274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3"/>
          <a:stretch/>
        </p:blipFill>
        <p:spPr>
          <a:xfrm>
            <a:off x="4713120" y="4940280"/>
            <a:ext cx="36687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inserts a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a linked list, which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CA47-D2C0-464B-BF21-7A243CD49F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pointer to the newly created node (now at the beginning of the l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’ll need to store its return value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upd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, rather than return a new valu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urns out to be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3FCE-DD7E-44EC-9785-7FB39E6CA8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us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reate a linked list containing numbers entered by the us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read_numbers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r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e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erminate)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s will be in reverse order within the li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AAC-83EF-409B-B549-B4591A65D4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can be used to search a lis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 is often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visits the nodes in a linked list, using a pointer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keep track of the “current”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first; p != NULL; p = p-&gt;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of this form can be used in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hat searches a list for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9B0-1A94-4BBD-88E7-B79653D76E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i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will return a pointer to the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, it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itial version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list; p != NULL; p = p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176-3885-4FC5-8B4A-E8C2DCFD297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many other ways to writ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lternative is to eliminate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instead u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to keep track of the current n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; 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list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copy of the original list pointer, there’s no harm in changing it within the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E303-EB36-4A92-875E-8A0658C762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 &amp;&amp; list-&gt;value !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lis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we reach the end of the list,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rrect even if we don’t f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D4D-04A4-4445-B6C8-4A5F291762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of te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1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(defined in various library headers) that represents the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combin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p = malloc(10000))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783A-1B03-4A6F-B542-924C35EC65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a bit clearer if we us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list != NULL &amp;&amp; list-&gt;value !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B79-F525-4D67-8A32-4444029B0E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g advantage of storing data in a linked list is that we can easily delet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a node involves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e the node to be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 the previous node so that it “bypasses”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claim the space occupied by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1 is harder than it looks, because step 2 requires chang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various solutions to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B54-A24C-46E8-92D9-EEE7985733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trailing pointer” technique involves keeping a pointer to the previous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s well as a pointer to the current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list to be search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integer to be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implements step 1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node to be delet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evious n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C386-DE91-452C-AC24-57D89CF9C6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AC58-8D97-445C-85E0-811A86EDB5B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6" descr=""/>
          <p:cNvPicPr/>
          <p:nvPr/>
        </p:nvPicPr>
        <p:blipFill>
          <a:blip r:embed="rId1"/>
          <a:stretch/>
        </p:blipFill>
        <p:spPr>
          <a:xfrm>
            <a:off x="1106640" y="2538360"/>
            <a:ext cx="7107120" cy="58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1104840" y="4255920"/>
            <a:ext cx="71438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ue, 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a node and the node doesn’t contain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A7FA-080F-4B9B-94B8-28CD92FDFE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1106640" y="3914640"/>
            <a:ext cx="7115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gain true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xecuted once mor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the node containing 20, the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false and the loop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2F8-1D8A-4964-A553-2B5F62DD5A4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1106640" y="3014640"/>
            <a:ext cx="709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perform the bypass required by ste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s the pointer in the previous node point to the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D8D-1CCC-4336-8CD5-CF272DE8A0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" descr=""/>
          <p:cNvPicPr/>
          <p:nvPr/>
        </p:nvPicPr>
        <p:blipFill>
          <a:blip r:embed="rId1"/>
          <a:stretch/>
        </p:blipFill>
        <p:spPr>
          <a:xfrm>
            <a:off x="939960" y="4052880"/>
            <a:ext cx="7164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3 is to release the memory occupied by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5AB-A6DB-4F2B-939D-88D270473F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uses the strategy just out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 list and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deletes the first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 node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either case, the function returns a pointer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the first node in the list is a special case that requires a different bypass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20B-0254-40C1-85CE-4BC38681D57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delete_from_list(struct node *list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cur, *pre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=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            /* n was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       /* n is in the first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  /* n is in some other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034-7C4A-42BA-BAD3-3ED9EC317B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 test true or false in the same way as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non-null pointers test true; only null pointers are fa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!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B230-2EE2-434E-AA19-B0F3F61323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rder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odes of a list are kept in order—sorted by the data stored inside the nodes—we say that the lis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ing a node into an ordered list is more difficult, because the node won’t always be put at the beginning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searching is faster: we can stop looking after reaching the point at which the desired node would have been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2CA1-088F-4255-B4D1-D62C798993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a modification of the parts database program of Chapter 16, with the database stored in a linked list thi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using a link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need to put a limit on the siz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 can easily be kept sorted by part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the database wasn’t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7E9-250E-4080-8953-48AC0C9D1F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will contain an additional member (a pointer to the next nod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E8B-26F0-4970-83C4-49638DD2CC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functions in the new program will closely resemble their counterparts in the origina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more complex, however, since we’ll keep the nodes in the inventory list sorted by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A17-5D50-48BC-B7E1-4BF505DC034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n index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pointer to the node that contains the desired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n’t find the part numb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9AA6-8DE8-425B-AEBA-7CEBA61526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list of parts is sorted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stop when it finds a node containing a part number that’s greater than or equal to the desired par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arch 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we’ll need to test whether the part was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AA33-126F-4303-B72B-08E4A6417DF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a new part in the next available array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w version must determine where the new part belongs in the list and insert i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also check whether the part number is already prese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accomplishes both tas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928-1FE1-4BF8-A232-817B211C295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loop terminat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check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qua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th are true, the part number is already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nsert a new node between the nodes point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trategy works even if the new part number is larger than any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original program, this version requir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of Chapter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3C4-326E-44F7-98BB-AC88434B34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4120" y="761760"/>
            <a:ext cx="84549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aintains a parts database (linked list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"readline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   /* points to firs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AD87-12B1-44CB-9D3A-2E9940837E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main: Prompts the user to enter an operation code,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then calls a function to perform the requested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action. Repeats until the user enters the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command 'q'. Prints an error message if the user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enters an illegal code.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operation cod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 %c", &amp;c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getchar() != '\n')   /* skips to end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214-5C50-4CDE-88A9-A8E3D982F3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often useful for working with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s are stored in character arrays, and it can be hard to anticipate how long these arrays ne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allocating strings dynamically, we can postpone the decision until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405-435F-4130-AEFC-35333FCFD2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 (co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i': inser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s': search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u': updat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p': print(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q': 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fault:  printf("Illegal cod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95D-54F5-4BC5-9703-F44B5ADF839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find_part: Looks up a part number in the inventory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list. Returns a pointer to the node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containing the part number; if the part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number is not found, returns NULL.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048-FD94-4EB5-8A20-7E13040ED4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insert: Prompts the user for information about a new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and then inserts the part into the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nventory list; the list remains sorted by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number. Prints an error message and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returns prematurely if the part already exists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or space could not be allocated for the part.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cur, *prev, *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par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abase is full; can't add more par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51E-9E93-459F-B073-C7084DA71F5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!= NULL &amp;&amp; new_node-&gt;number == cur-&gt;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already exis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new_n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am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new_node-&gt;name, NAME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cu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DDA-99DC-429B-9758-93B49353E4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search: Prompts the user to enter a part number, then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looks up the part in the database. If the part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s, prints the name and quantity on hand;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f not, prints an error message.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ame: %s\n", p-&gt;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Quantity on hand: %d\n", 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EE08-F45A-4F42-8907-916C150AFF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update: Prompts the user to enter a part number.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rints an error message if the part doesn't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; otherwise, prompts the user to enter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change in quantity on hand and updates the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database.      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,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change in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chan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 +=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74AD-721E-4E2B-BB19-57AA9EB3B68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print: Prints a listing of all parts in the database,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showing the part number, part name, and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quantity on hand. Part numbers will appear in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ascending order.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umber   Part Name                 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Quantity on Han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 p != NULL; 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7d       %-25s%11d\n", p-&gt;number, p-&gt;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F9F-5BDB-456E-B171-816F6BFF19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introduced the idea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cept of “pointers to pointers” also pops up frequently in the context of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when an argument to a function is a pointer variable, we may want the function to be abl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ing so requires the use of a pointer to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D1F-36E5-4C47-A15E-5F99F66974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85800" y="1523520"/>
            <a:ext cx="7835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passed a pointer to the first node in a list; it returns a pointer to the first node in the upda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A09-4CBE-4B36-B8D2-04B8CAA81D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o that it assig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point of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pied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function change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it point to the new nod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t af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75C-EA8B-45AD-A471-57026CBC02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9920" y="7617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cates a block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and returns a point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unsigned integer type defined in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721-7932-45A6-A5E0-44FA5888CA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dif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add_to_list(struct node *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*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 =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1E5-1C78-4771-AE9D-16E6B9A0C9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ew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the first argument will be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&amp;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lia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ssig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BC0B-34A6-4DFC-BA7C-758A981C11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require that pointers point on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’s also possible to hav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occupy memory locations, so every function has an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use function pointers in much the same way we us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 a function pointer as an argument is fairly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777B-E17F-4407-AE46-91D7F84E436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name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a mathematical functio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as general as possible by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rgu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(*f)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 tha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a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prototyp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3BA-026B-4DB9-B833-3F2A5C159A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sine) function from 0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 = integrate(sin, 0.0, PI /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unction name isn’t followed by parentheses, the C compiler produces a pointer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the bod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call the function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(*f)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)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96F-D5D1-4101-9B58-17066613F2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85800" y="761760"/>
            <a:ext cx="8026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incr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 (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(double)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, 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b - a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a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+= f(x)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DEB-FF17-409C-8DE8-890DF0716C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of the most useful functions in the C library require a function pointer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s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belong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general-purpose sorting function that’s capable of sorting an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79C-9F31-46AA-9D29-AA7F5AD5D1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told how to determine which of two array elements is “small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done by pas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pointer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two poin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rray elements, the comparison function must return an integer tha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less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equal to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greater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0198-8B65-4A73-A7AF-D2BF86DC74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8"/>
          <p:cNvSpPr/>
          <p:nvPr/>
        </p:nvSpPr>
        <p:spPr>
          <a:xfrm>
            <a:off x="6507000" y="2079720"/>
            <a:ext cx="171000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481640" y="2079720"/>
            <a:ext cx="184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2771640" y="2079720"/>
            <a:ext cx="148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1371600" y="2394000"/>
            <a:ext cx="6324480" cy="30492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voi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(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(const void *, const void *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the first element in the array (or the first element in the portion to be s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elements to be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size of each array element, measured in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the 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5777-5CB3-4FA6-988D-1FFF52C92F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it sorts the array into ascending order, calling the comparison function whenever it needs to compare arra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or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of Chapter 1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inventory, num_part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uct part), compare_part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ares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9ED-8A2E-4243-884D-3ADC3541E2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6T13:03:25Z</dcterms:modified>
  <cp:revision>1070</cp:revision>
  <dc:subject/>
  <dc:title>No Slide Title</dc:title>
</cp:coreProperties>
</file>